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76252-6E0F-41E7-8F78-E345DF0F69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FBCC-EC2B-4C42-BFAD-907C7D4A5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C299-5C95-47EA-8C32-C7D0EE33C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A78E-F01E-446A-A6A3-2A212FBED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1C0A1-DE65-479A-887A-394678086E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B844A-255C-41AC-A1B9-273C74E02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A55E6-C433-4AFE-85C9-1ED2E8197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8997-01A3-434E-A202-6379F40DF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EA615-54CC-4377-83A7-D9CADB6D4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0843-ACC7-49AD-81BC-1899E500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92A76-68D2-4869-B59A-2BFF89F2F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42BA-B5DC-4A20-AF52-C83A2F752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63AF-0D94-477C-95B3-A0B36406BF8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120600"/>
            <a:ext cx="9101160" cy="658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51Z</dcterms:modified>
  <cp:revision>28</cp:revision>
  <dc:subject/>
  <dc:title>PowerPoint Presentation</dc:title>
</cp:coreProperties>
</file>