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6A5B5A-9C5A-497D-8617-D3955A6E6E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alibri"/>
              </a:rPr>
              <a:t>9.7b | Multifactor Productivity Trends in Pharmaceuticals and Medicine and Medical Equipment and Supplies, 1987-2008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88C39-378D-4D81-8ED4-092576646C9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46233-0E8E-400D-9D48-FDBB915DE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B2E36-FACF-4ADD-A4D3-A75C5FDAD1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54C3F-658E-447D-9804-675A19302B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ACD-D067-47F4-BD5F-7BD7D20F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F9F8C-D52D-409F-BB2D-DC444DEAE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A13A-252F-4927-89B6-EC0591A0E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86F31-E420-4542-A829-BDBAB83305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3613A-051C-4213-88AF-AC4AD8AC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7C84-84BE-4A15-A6F2-1F7C6D066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20A63-AC91-45C2-9A75-6EBDC491D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745B-5E33-4A2B-9DD0-7CAEF0A64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61C3-10EE-4044-A977-C631F3557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28477-0F6C-4903-A53C-556961B3B3D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274320"/>
            <a:ext cx="891540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9.7b | Multifactor productivity has fallen in pharmaceuticals even while rising in the medical device industry more quickly than the private sector 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Content Placeholder 3" descr=""/>
          <p:cNvPicPr/>
          <p:nvPr/>
        </p:nvPicPr>
        <p:blipFill>
          <a:blip r:embed="rId1"/>
          <a:stretch/>
        </p:blipFill>
        <p:spPr>
          <a:xfrm>
            <a:off x="406440" y="1168560"/>
            <a:ext cx="8331120" cy="5511600"/>
          </a:xfrm>
          <a:prstGeom prst="rect">
            <a:avLst/>
          </a:prstGeom>
          <a:ln w="0">
            <a:noFill/>
          </a:ln>
        </p:spPr>
      </p:pic>
      <p:sp>
        <p:nvSpPr>
          <p:cNvPr id="50" name="TextBox 1"/>
          <p:cNvSpPr/>
          <p:nvPr/>
        </p:nvSpPr>
        <p:spPr>
          <a:xfrm>
            <a:off x="685800" y="1219320"/>
            <a:ext cx="19051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Multifactor productivity indexes: (1987=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TextBox 5"/>
          <p:cNvSpPr/>
          <p:nvPr/>
        </p:nvSpPr>
        <p:spPr>
          <a:xfrm rot="16200000">
            <a:off x="-2305080" y="3597480"/>
            <a:ext cx="518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  <a:ea typeface="Tahoma"/>
              </a:rPr>
              <a:t>From The American Health Economy Illustrated Onlin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09T21:34:12Z</dcterms:created>
  <dc:creator>Trinity Technical Services</dc:creator>
  <dc:description>9.7b | Multifactor productivity has fallen in pharmaceuticals even while rising in the medical device industry more quickly than the private sector  </dc:description>
  <dc:language>en-US</dc:language>
  <cp:lastModifiedBy>Jia Yao</cp:lastModifiedBy>
  <dcterms:modified xsi:type="dcterms:W3CDTF">2013-09-06T14:59:38Z</dcterms:modified>
  <cp:revision>1387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Presentation">
    <vt:lpwstr>Slide 1</vt:lpwstr>
  </property>
  <property fmtid="{D5CDD505-2E9C-101B-9397-08002B2CF9AE}" pid="3" name="SlideDescription">
    <vt:lpwstr>9.7b | Multifactor productivity has fallen in pharmaceuticals even while rising in the medical device industry more quickly than the private sector  </vt:lpwstr>
  </property>
</Properties>
</file>