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87383-34A5-4287-A519-42B58C31956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9.7a | Multifactor Productivity Growth in Health Services, 1990-200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C1D70-25F6-41A3-8DA6-66E4A43C00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D5D18-5621-40B2-9FEC-A1FB53592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05EA3-9AF7-4168-A539-3265A7139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1D4FA-2017-4AD5-A9C1-CAFBEEE1D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F3A7C-754C-46B9-B395-74966C36E7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D4B7A-7CF6-4DBF-9846-E7BD651DD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3E1C0-C6ED-40BC-8927-0D9A013F3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CEA43-6F13-45BD-AF79-F306F9D98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E6297-E9BC-4D1C-A1A2-E4DD0810F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0650-7A72-4A09-8B51-27B5AB9BF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06A7-C1B3-4323-9EEE-1315CF709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0BC7E-43C1-4605-8F90-F402CFF24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CDC6D-32BA-47BA-9B1E-CFD25E9D4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7F49F-09A9-4B0E-A3F7-56462E842CB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152280"/>
            <a:ext cx="8915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7a | Multifactor productivity growth has steadily increased in ambulatory care over two decades but still is negative for health faciliti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320840"/>
            <a:ext cx="8559720" cy="558792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533520" y="1143000"/>
            <a:ext cx="19573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ompound annual rate of change in multifactor productiv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7a | Multifactor productivity growth has steadily increased in ambulatory care over two decades but still is negative for health facilities</dc:description>
  <dc:language>en-US</dc:language>
  <cp:lastModifiedBy>Jia Yao</cp:lastModifiedBy>
  <dcterms:modified xsi:type="dcterms:W3CDTF">2013-09-06T14:59:35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7a | Multifactor productivity growth has steadily increased in ambulatory care over two decades but still is negative for health facilities</vt:lpwstr>
  </property>
</Properties>
</file>