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D4E28-9AD7-46B5-A403-EA6AE1B13E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A33D-FD9C-42A3-92A7-297E3759DB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95BE-5958-49BE-B9F0-0545941861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D0D9-ED04-45E5-9B68-9FE2F0586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E9A6-9228-4478-A82F-E3213DA47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2B54D-7EEC-432A-A2DB-B7D005FD1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E74FD-AF64-4972-8C7A-0EFA251844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8CFBC-4C52-44C2-A7E1-CE88D1950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3914-4521-4139-AD84-9AD58E1FC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51BA0-996D-4FCA-8F38-B1D29ED09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0BD6-CD68-4A39-B886-9CBA20BC5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A14E-E5BE-4B38-8577-3192DCA0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132B9-B2AD-40E8-BE02-0FE94404FF9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" descr=""/>
          <p:cNvPicPr/>
          <p:nvPr/>
        </p:nvPicPr>
        <p:blipFill>
          <a:blip r:embed="rId1"/>
          <a:stretch/>
        </p:blipFill>
        <p:spPr>
          <a:xfrm>
            <a:off x="0" y="214200"/>
            <a:ext cx="9123480" cy="64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07T21:16:04Z</dcterms:created>
  <dc:creator>Jia Yao</dc:creator>
  <dc:description/>
  <dc:language>en-US</dc:language>
  <cp:lastModifiedBy>Jia Yao</cp:lastModifiedBy>
  <dcterms:modified xsi:type="dcterms:W3CDTF">2013-09-04T17:09:49Z</dcterms:modified>
  <cp:revision>28</cp:revision>
  <dc:subject/>
  <dc:title>PowerPoint Presentation</dc:title>
</cp:coreProperties>
</file>