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2B605-171E-403B-A873-05301B4D3B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7a | Multifactor Productivity Growth in Health Services, 1990-20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6A51D-7478-4EA6-99F6-FD6ADC6B76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B834-D027-4CC9-B321-7D877ECBB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622E-DF95-44DC-9D70-BFCC0660B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BC30-7A01-4496-A68C-805CB3C7A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6BFB-F1DA-47E7-A3E8-0655398AA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4FED-4514-467D-8520-951E18B0F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A0F3-3A81-41D6-8878-728A557F9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C70C-3CFC-4443-9A96-965F65E7F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675F-AC65-48FB-8BC7-D22DC0B24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07F9-8EEA-4183-BEE2-52503B039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45C5-6DC7-4922-BFB5-87C8CCB2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E50D-E974-4EE4-AEC3-E5E80BBE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0421-9652-4026-BF56-1771148E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03A92-8E44-4F93-B030-0A167B7622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7a | Multifactor productivity growth has steadily increased in ambulatory care over two decades but still is negative for health facil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5597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533520" y="1143000"/>
            <a:ext cx="1957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mpound annual rate of change in multifactor productiv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7a | Multifactor productivity growth has steadily increased in ambulatory care over two decades but still is negative for health facilities</dc:description>
  <dc:language>en-US</dc:language>
  <cp:lastModifiedBy>Jia Yao</cp:lastModifiedBy>
  <dcterms:modified xsi:type="dcterms:W3CDTF">2013-09-06T14:59:35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7a | Multifactor productivity growth has steadily increased in ambulatory care over two decades but still is negative for health facilities</vt:lpwstr>
  </property>
</Properties>
</file>