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42C-CA30-43DF-A825-FE51C063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CCA-2665-4956-A044-486154D6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67E-B453-4DC3-8C9E-335E26A7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034-F519-41B6-BC7E-62D27BD5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1E1-A895-4674-B8BA-E2DEF468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8DDA-97CF-49A8-BCBC-2901C697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326-E49C-4C6C-B89D-18771AB1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3B6-77E8-4379-AC8C-3D669A0A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4DA-CDB6-4858-BE52-0D920CEB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47F-D73E-4E9F-97D7-AFE416E5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3C5-96EF-42CC-ABD4-30C78568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477-F51C-498C-82E5-9EBC5889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54B7-46C7-4A75-BD6D-D33E6240F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0600"/>
            <a:ext cx="91011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51Z</dcterms:modified>
  <cp:revision>28</cp:revision>
  <dc:subject/>
  <dc:title>PowerPoint Presentation</dc:title>
</cp:coreProperties>
</file>