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281-9AE4-4195-9DB9-CCE41213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457-ED99-4566-A059-1A4C4528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6E9-F78E-4D0F-867A-FE8C9B4E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7CE-EC40-41A4-ACC9-0C2BA9BD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BC5-D1A2-474E-8303-F9DBDB48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181-1601-4B52-9581-26F004F8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88D-9F7A-4EF5-8309-97A91618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739-8C5B-4736-8026-25E28566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EDF-EB5E-4916-BBA3-EE29D957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767-11CD-47EB-B433-01D89953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DB0-8B82-4BBA-9951-F8D46E97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EF9-CAFF-4A3D-A366-B2A090DF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1B3E-988E-4F35-9790-BE262C7A7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234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9Z</dcterms:modified>
  <cp:revision>28</cp:revision>
  <dc:subject/>
  <dc:title>PowerPoint Presentation</dc:title>
</cp:coreProperties>
</file>