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5BC4-F915-434B-9BE3-A1D0F4F14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b | Multifactor Productivity Trends in Pharmaceuticals and Medicine and Medical Equipment and Supplies, 1987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A9C7-A410-41D5-80F2-FA0A6A91B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526-08E7-49EE-AC64-2EE6D525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4682-2B74-465D-BBB9-04889F79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E75-E326-4118-9E71-A2A387A7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1599-652D-4717-9A09-93871988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7C4A-EEE5-4526-A9D4-0060C49A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EEE-AC7C-4481-8CD6-96A8D722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E26-5E8A-4F3C-BC7C-8E4F68F9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CBD-3AAC-44F4-BC1F-D1790ED8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F8BA-21BC-47AB-B5EE-22034F31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E152-41F6-43BC-990D-47B549AE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4CD-2ABA-4450-B4B9-51299DE3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52E6-2528-4B00-A7FC-B7CA36C3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0C12-EE20-49D3-932C-6EA42CDDA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b | Multifactor productivity has fallen in pharmaceuticals even while rising in the medical device industry more quickly than the private secto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193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ultifactor productivity indexes: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b | Multifactor productivity has fallen in pharmaceuticals even while rising in the medical device industry more quickly than the private sector  </dc:description>
  <dc:language>en-US</dc:language>
  <cp:lastModifiedBy>Jia Yao</cp:lastModifiedBy>
  <dcterms:modified xsi:type="dcterms:W3CDTF">2013-09-06T14:59:38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b | Multifactor productivity has fallen in pharmaceuticals even while rising in the medical device industry more quickly than the private sector  </vt:lpwstr>
  </property>
</Properties>
</file>