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0E50-19F3-4FF2-91C6-E2DF912AB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7a | Multifactor Productivity Growth in Health Services, 1990-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20E3-F0BD-4A1F-AC62-B1407A809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DF72-AD25-4ABE-8064-CF7432A4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1D56-4B32-48F4-8DDA-601329EC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7421-3C78-42B3-BE5E-2FF96014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257D-FE18-43E9-9218-349B46A6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21B6-6349-4F73-843B-C7008E88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D7D8-7C24-4814-80A3-FD70EDF0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7951-5EDB-497F-B25C-55D44ABC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9DA1-5DD5-4491-A59D-FA7935D3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310B-4292-489B-984E-2B07AD64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7419-A084-4610-A2C1-EF4C6057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B224-D132-4B0D-97C9-329713D6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E817-0EB9-4CCB-B3CC-D88E6932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9403-7BA7-45E8-9DF1-3C0A42D2E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7a | Multifactor productivity growth has steadily increased in ambulatory care over two decades but still is negative for health fac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143000"/>
            <a:ext cx="195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rate of change in multifactor produ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7a | Multifactor productivity growth has steadily increased in ambulatory care over two decades but still is negative for health facilities</dc:description>
  <dc:language>en-US</dc:language>
  <cp:lastModifiedBy>Jia Yao</cp:lastModifiedBy>
  <dcterms:modified xsi:type="dcterms:W3CDTF">2013-09-06T14:59:35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7a | Multifactor productivity growth has steadily increased in ambulatory care over two decades but still is negative for health facilities</vt:lpwstr>
  </property>
</Properties>
</file>