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6B86-A770-4FFA-AFC0-62BBA187E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7a | Multifactor Productivity Growth in Health Services, 1990-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E5D2-1C41-4381-8113-0387711C3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501-C061-4A20-A8D0-8F7BAA3B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9116-BCC2-40DA-920A-65D26CF5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8BBA-7E83-4EDA-9FF8-576F8A2E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067-2622-4A44-A710-D40A6141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D7B5-36B6-4477-9ACE-8610B71A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B7F-E3C6-4919-9EC2-F213DAD3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ACC4-0B9B-4335-B554-F73D4D56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9F2-4735-44F3-82CA-B0175F90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9AEF-D7D1-413B-A354-A5B506F3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3F22-AEAA-4056-9EF7-0F000585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15EA-3072-4888-A363-3002558B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12AB-7081-45F1-AA5D-6F20AE1F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7485-EF86-4BA7-BE86-3808C7624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7a | Multifactor productivity growth has steadily increased in ambulatory care over two decades but still is negative for health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1430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rate of change in multifactor produ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7a | Multifactor productivity growth has steadily increased in ambulatory care over two decades but still is negative for health facilities</dc:description>
  <dc:language>en-US</dc:language>
  <cp:lastModifiedBy>Jia Yao</cp:lastModifiedBy>
  <dcterms:modified xsi:type="dcterms:W3CDTF">2013-09-06T14:59:35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7a | Multifactor productivity growth has steadily increased in ambulatory care over two decades but still is negative for health facilities</vt:lpwstr>
  </property>
</Properties>
</file>