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E8E2-992C-4820-8B1F-80E0A172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EB32-565C-4177-82C9-B6E64D14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89A5-D0E9-4358-BF0C-EFC91D6E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3BDB-7377-4CEC-9EB2-FC1B27E9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21FD-E4D1-4845-93D0-6871127F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BB17-5666-4B2F-A731-710822A4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CAFA-5CD3-4D01-90EB-67F3462F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FCA9-CD63-4888-9F57-5AEB3D30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CD06-50F2-4A9B-A6BF-38B1D6DB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1407-C4F8-4902-BB6D-1FB01C23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A7FD-D17F-4695-80E0-7C2ABA6A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FC40-2AEA-4FD9-AB21-1C095E52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E5E4-100A-4905-BE96-65816F357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14200"/>
            <a:ext cx="912348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9Z</dcterms:modified>
  <cp:revision>28</cp:revision>
  <dc:subject/>
  <dc:title>PowerPoint Presentation</dc:title>
</cp:coreProperties>
</file>