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23B-F369-4A35-A706-B0C3B5960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6B | NATIONAL HEALTH SPENDING AND AVERAGE GROSS SAVING AS A PERCENTAGE OF GDP, G7 NATION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AC43-6BEA-4B8A-95C4-2BAE914A2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44C-0F27-481A-9A30-3A8A6E57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E23-D926-4A53-9F97-3E184478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2B2-1036-49E2-97F8-3AB54179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AFB-E47B-4FEE-AB5D-9D5A01BE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84C-F931-4E73-8C90-EB15AA78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B28-CB0B-44F9-88D7-A439805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9D3-07AE-4C64-BF87-77F0AA7E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39F-8413-45D0-B4EF-AD676532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218-8AC5-48E9-9E7D-574C9C40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E40-DA5E-44B9-A660-D8F855C3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ADD-E10F-462B-93C7-90E7C48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647-AA92-49A0-82CC-674551A0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6941-7F95-44F8-8D2E-89C60CA93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6b | Health spending matches gross saving in the U.S.; in most other G7 countries, the national savings rate is much higher  than N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320840"/>
            <a:ext cx="848340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b | Health spending matches gross saving in the U.S.; in most other G7 countries, the national savings rate is much higher  than NHE</dc:description>
  <dc:language>en-US</dc:language>
  <cp:lastModifiedBy>Jia Yao</cp:lastModifiedBy>
  <dcterms:modified xsi:type="dcterms:W3CDTF">2013-09-06T14:59:3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b | Health spending matches gross saving in the U.S.; in most other G7 countries, the national savings rate is much higher  than NHE</vt:lpwstr>
  </property>
</Properties>
</file>