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5A8-10E8-4D99-A14F-CA5B95A1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D55-3B3D-4C1E-98AB-7E8A794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160-832F-4407-BE98-CC116CD7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C10-1D11-42A8-8C1D-E47904C6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42D-7C01-48E1-ABB6-AA348F0D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4BE-F72D-49A2-8EF3-252B91FD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5B0-84F7-4A50-B958-A9A8F6A4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7C4-04BB-4476-A8F2-29E42F35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EE2-C9D9-4BCC-AB99-6103B44E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6DD-E4EC-49C0-8C25-E982C110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0E2-FD86-40E5-992F-CEAD7774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662-4EF9-4ED9-BBB1-503AAF2E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795F-EF98-4AED-B4D6-D0374B616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152280"/>
            <a:ext cx="9004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7Z</dcterms:modified>
  <cp:revision>28</cp:revision>
  <dc:subject/>
  <dc:title>PowerPoint Presentation</dc:title>
</cp:coreProperties>
</file>