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10E5-938B-4C18-B261-79419A351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6a | Personal Savings and Personal Health Consumption Expenditures as a Percent of Disposable Income, 194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36D6-5B1E-443F-A75F-C8ED6E022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93F-F0CB-4091-B4AE-36C74155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1A7-672F-48B4-9AFC-D68A675D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191-8247-4D7A-A664-B798AA02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55B-FB5F-4EA2-B50A-BF743BBA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2BC-2B07-4961-A10E-33FE5FCE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092-7818-491B-ABEA-1BB5CBFF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E3B-BB5A-402F-8713-693DF229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0C7-4638-4AB5-8DE8-736B077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6F3-243A-4CD5-8CFC-747CC251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666-3FFF-4835-81C1-48362FA3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3A7-27F3-48BB-86AA-75245EC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F17-BD49-4623-9C49-473DCD92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0311-FC36-48CE-B175-48F26EE9D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9.6a | The share of income going to personal health care and personal savings both increased prior to 1982, but savings generally declined thereaf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disposable pers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a | The share of income going to personal health care and personal savings both increased prior to 1982, but savings generally declined thereafter</dc:description>
  <dc:language>en-US</dc:language>
  <cp:lastModifiedBy>Jia Yao</cp:lastModifiedBy>
  <dcterms:modified xsi:type="dcterms:W3CDTF">2013-09-06T14:59:3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a | The share of income going to personal health care and personal savings both increased prior to 1982, but savings generally declined thereafter</vt:lpwstr>
  </property>
</Properties>
</file>