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1BB-FE35-4027-A8F4-E02C2353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6AF-2E45-4183-A5D6-0BF245EA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CE7-F4C9-4A44-9918-36400D9C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109-D176-4C24-BFF5-5BC273FC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533-B1C7-4D43-AD99-1FEFA0DE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CAD-292B-4396-B823-82E6E663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672-2EA0-40A7-921A-0BBC7793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119-E320-4E30-8133-12A38A6C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F02-9868-4868-A5C1-A8CD402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BA6-5E9C-4DFB-8442-682BB83F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F09-5A21-494B-AB77-17935F24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876-4D62-479E-BF0F-3E0882AB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D677-07D8-4CBD-B182-68F2CE5D6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228600"/>
            <a:ext cx="907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8Z</dcterms:modified>
  <cp:revision>28</cp:revision>
  <dc:subject/>
  <dc:title>PowerPoint Presentation</dc:title>
</cp:coreProperties>
</file>