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C7F3-C7F6-4401-A026-F4A2A70B9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a | Net Stock of R&amp;D Capital Compared to Productive Capital Stocks, Health Services and All Private Business, 1987-2007 (R&amp;D per $1,000 of Productive Capital Stoc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DFBA-F479-40D8-B7DA-206C21374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1E0-34B8-4FDA-A167-2CB077D2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E5C-7D5B-4C81-9F42-209552C9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2CD-3F1F-4C31-A7C0-2DC21375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A00-2070-46F1-BFF9-0EFE6598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E96-9FF1-4C99-A884-F26EA06D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B97-F848-4055-BEC3-98836D5A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E4D-1B6A-457B-B13C-50090B5D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305-8375-42DB-97D3-F3A82FA3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F3D-1E1C-46AF-97C8-850F181F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2C7-7A44-4EB7-962C-976B01F7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ED6-9906-4B66-ABFD-42AD9263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51E-7115-4AEF-A338-15D0AE71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5619-F608-41EA-B0DA-3E7B6A282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a. | The ratio of R &amp; D capital to productive capital stocks is roughly five times as high in private business as in 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6019920"/>
            <a:ext cx="87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idential care facilities. It does not include pharmaceuticals or medical de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a. | The ratio of R &amp; D capital to productive capital stocks is roughly five times as high in private business as in health services</dc:description>
  <dc:language>en-US</dc:language>
  <cp:lastModifiedBy>Jia Yao</cp:lastModifiedBy>
  <dcterms:modified xsi:type="dcterms:W3CDTF">2013-09-06T15:00:4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a. | The ratio of R &amp; D capital to productive capital stocks is roughly five times as high in private business as in health services</vt:lpwstr>
  </property>
</Properties>
</file>