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9FEC-8031-4647-9A14-62F51F05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363-8A34-4BCC-824E-106D60B6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83F-6521-4006-BC5A-0690CBB9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7F8-D2DC-4009-B0B8-EC9F3E58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39E-D84F-4904-98E1-F2BD2138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037F-1C4E-468D-921E-F3179632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5A8-E4F8-427D-A8D0-0FF845E4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BB94-E017-4FCF-A11B-3A9B8CDC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D7B-EDFB-4D9F-BAED-C7CCE140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D7A-7B59-4D19-A58C-E83CDE58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402-EA56-4F93-B900-6394F331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0BB-6050-479E-9BB2-E4ACB8E4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E283-9BFD-4A71-9C5F-FDFC6799C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93760"/>
            <a:ext cx="9128160" cy="62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6Z</dcterms:modified>
  <cp:revision>28</cp:revision>
  <dc:subject/>
  <dc:title>PowerPoint Presentation</dc:title>
</cp:coreProperties>
</file>