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657C-359E-497F-8C29-CA05B08DC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b | Net Stock of R&amp;D Capital per $1,000 GDP or National Health Expenditures (NHE), 195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DEA7-F8D5-4669-BF0D-FEEBB3734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336E-9595-4AF9-A2D6-44562D91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B1E0-7E3B-4EDC-B419-D7E28764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9528-73CA-4DF5-BB3E-F19396E8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CE5-7F4C-44B8-8388-711DDEB7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718-B5E3-40E3-8C16-B86389E1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17B7-3704-4C2A-9237-6E34322B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A18-2977-43AB-B222-BF360901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D41E-497C-4A5A-9A8D-5B733222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108-9E89-49DC-A837-08B980EA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8E0F-DD4C-49E2-ADC4-4DCCD39E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EA7B-96BC-4DA0-BE83-DA1F56DA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DB4-60FD-423E-BABB-5C0C22D7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06AE-0184-4773-BAAC-94BD084BF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b. | The ratio of R &amp; D capital to GDP is higher than the ratio of health care R &amp; D to NHE; the reverse was true from 1960-19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83487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R &amp; D expenditures include both private and public sector spending, regardless of where the R &amp; D was actually condu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b. | The ratio of R &amp; D capital to GDP is higher than the ratio of health care R &amp; D to NHE; the reverse was true from 1960-1979</dc:description>
  <dc:language>en-US</dc:language>
  <cp:lastModifiedBy>Jia Yao</cp:lastModifiedBy>
  <dcterms:modified xsi:type="dcterms:W3CDTF">2013-09-06T14:59:2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b. | The ratio of R &amp; D capital to GDP is higher than the ratio of health care R &amp; D to NHE; the reverse was true from 1960-1979</vt:lpwstr>
  </property>
</Properties>
</file>