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5668E-477F-4677-83BA-5B514EF68D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9.5b | Net Stock of R&amp;D Capital per $1,000 GDP or National Health Expenditures (NHE), 1953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F6BE2-5540-4E8A-B8E0-2574B50770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E9A6-32F1-44DD-945E-38B1E4B7E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CD73-3848-474B-9F64-F5E369C2A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CED1-0DFB-4FE6-AB3D-2127FD8CB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96CF-57B6-4116-996D-85399F8D0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4085-A084-4F97-BC97-E8BAD38A0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F0DE-CA71-4557-A870-7F0770A35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85C0-FB95-4906-912D-A85743118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CDAD-8594-4D39-843E-5189C0DBD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F1F6-0C7C-4E9E-99AF-A3BA7F21E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B4A8-BD76-4B7B-B50C-E1C42B8E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DB90-E4C9-44F3-9BDE-AFF57380B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6CB7-3424-4D66-A3CF-640E3F913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09E48-6800-4ADE-B76C-4FFDE76CB8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5b. | The ratio of R &amp; D capital to GDP is higher than the ratio of health care R &amp; D to NHE; the reverse was true from 1960-197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388800" y="1015920"/>
            <a:ext cx="8348760" cy="5435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609480" y="60199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R &amp; D expenditures include both private and public sector spending, regardless of where the R &amp; D was actually conduct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5b. | The ratio of R &amp; D capital to GDP is higher than the ratio of health care R &amp; D to NHE; the reverse was true from 1960-1979</dc:description>
  <dc:language>en-US</dc:language>
  <cp:lastModifiedBy>Jia Yao</cp:lastModifiedBy>
  <dcterms:modified xsi:type="dcterms:W3CDTF">2013-09-06T14:59:27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5b. | The ratio of R &amp; D capital to GDP is higher than the ratio of health care R &amp; D to NHE; the reverse was true from 1960-1979</vt:lpwstr>
  </property>
</Properties>
</file>