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8377-61EC-4C15-92FF-4634DF9BF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a | Net Stock of R&amp;D Capital Compared to Productive Capital Stocks, Health Services and All Private Business, 1987-2007 (R&amp;D per $1,000 of Productive Capital Stoc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C12F-C0C8-4106-80C4-6E22B252F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57F-3B09-4264-858A-3FEE7D42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C6A-D479-4AAC-B946-143CF56B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1EF-AF3E-4C48-A432-3E8D524C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9D6-E828-4165-A939-35EF525E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A4D-E6D4-44C8-8DD3-D8007C00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83D-E9E7-4E26-B6E2-CDDF870B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0DA-4D11-4093-9E92-DD775560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191D-97C5-461B-B1E8-C3F4AB43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1CAF-F837-4589-B11F-384C02EB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A627-09CD-4232-9494-7DF79F74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084-7BAF-4DD0-8556-CC99C19B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93A5-FA04-4B0E-81F9-81CC1D5A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CE13-B642-48E7-9A7D-6C9A1867D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a. | The ratio of R &amp; D capital to productive capital stocks is roughly five times as high in private business as in 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6019920"/>
            <a:ext cx="87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idential care facilities. It does not include pharmaceuticals or medical de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a. | The ratio of R &amp; D capital to productive capital stocks is roughly five times as high in private business as in health services</dc:description>
  <dc:language>en-US</dc:language>
  <cp:lastModifiedBy>Jia Yao</cp:lastModifiedBy>
  <dcterms:modified xsi:type="dcterms:W3CDTF">2013-09-06T15:00:4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a. | The ratio of R &amp; D capital to productive capital stocks is roughly five times as high in private business as in health services</vt:lpwstr>
  </property>
</Properties>
</file>