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2580-2EB7-466D-8A3C-3EBF118B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B68-2C6C-43F5-814A-9C10BEF9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8E1-97AE-4C4B-BE83-ECBBC3A8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65B-0DF0-48C1-AF25-F092DAE9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BF9-B528-4074-811E-097422C5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B5C-2622-4B2F-B7CE-984DA0DB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F13-0A99-4B97-82FF-6438D5EB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C4E7-9537-46C9-8DF3-B0D4C6AB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93C-854C-487B-8F72-B697EFC3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45C-B3A6-40E9-B2B8-562ADE8C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EB0-E6E1-4334-ABFD-044C69F0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43A-D7E5-45F9-BB7C-8543CFFC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7EEE-89FD-47EF-8AFA-5AEBD7DBD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100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5Z</dcterms:modified>
  <cp:revision>28</cp:revision>
  <dc:subject/>
  <dc:title>PowerPoint Presentation</dc:title>
</cp:coreProperties>
</file>