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D4A-899B-4947-9FBB-D8648796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049-118E-492D-A578-13A49745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EA1-7160-411C-ADFE-EF396AAE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7A5-142D-4864-B862-724B7E0D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C69-04B5-434C-9193-5D8C16B3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909-8D19-4331-8838-A2472F3E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A9D-239E-4FE7-A0DA-2E08335A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6E4-46FF-4A7A-87A4-E3D9C459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A2B-DD8E-4271-92FF-126D42FA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D90-B348-4010-B971-6BB577CC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556-F018-4D35-B0F6-34947CEC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DB8-88A1-4B7F-BC26-A5F33868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AE11-3167-471D-A487-CE1B99B9F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100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5Z</dcterms:modified>
  <cp:revision>28</cp:revision>
  <dc:subject/>
  <dc:title>PowerPoint Presentation</dc:title>
</cp:coreProperties>
</file>