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CF2C9-D57B-46B5-A99F-5F42EEA06E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9.5a | Net Stock of R&amp;D Capital Compared to Productive Capital Stocks, Health Services and All Private Business, 1987-2007 (R&amp;D per $1,000 of Productive Capital Stock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B1CD7-C5AD-4A8A-9EB6-D9386D0493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7053-0033-4FD3-97DB-321398543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6785-D617-4C58-BD8E-F7588582D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856F-8CD7-4738-A8B0-6F4D4C539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E791-DC4D-40ED-90AA-F275DB944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A0B3-88A0-431F-BF7B-370794A65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9492-367D-4516-A2BD-20E2AF1EA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7A26-B06A-4CAE-9CA6-675046D8C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F109-55CE-439F-A81E-9C3E55B3C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1FA8-B678-476C-BF59-A05F19152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0005-50F5-4B27-9CFB-F1D540F06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E11B-6183-420C-B626-9D240155F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7F01-0FD6-4D7A-B476-2FAE30939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97CB9-A545-45E7-BF35-8FDBCAEB51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274680"/>
            <a:ext cx="838188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9.5a. | The ratio of R &amp; D capital to productive capital stocks is roughly five times as high in private business as in health servi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177840" y="1015920"/>
            <a:ext cx="8102520" cy="543564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439560" y="6019920"/>
            <a:ext cx="870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: health services includes ambulatory health care services, hospitals and nursing and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sidential care facilities. It does not include pharmaceuticals or medical devic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9.5a. | The ratio of R &amp; D capital to productive capital stocks is roughly five times as high in private business as in health services</dc:description>
  <dc:language>en-US</dc:language>
  <cp:lastModifiedBy>Jia Yao</cp:lastModifiedBy>
  <dcterms:modified xsi:type="dcterms:W3CDTF">2013-09-06T15:00:42Z</dcterms:modified>
  <cp:revision>138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9.5a. | The ratio of R &amp; D capital to productive capital stocks is roughly five times as high in private business as in health services</vt:lpwstr>
  </property>
</Properties>
</file>