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EEC8-24C9-4B59-B9C5-090E5AB3E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4b | Information Capital per Labor Hour, Private Health Care Services and Private Busines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1E5C-8AE4-443D-BEFC-377B0549A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9B75-B595-48AD-ABE8-02CE9E58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121-96D8-463A-B458-B2B2798D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5FD-2D1C-40CE-AFA8-1E26BCA8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F24-B5AA-4465-ABBE-1550A229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06D-0B3E-4E9F-9F53-FAE7049F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E42-B730-49F3-A867-E98D05A7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3DD-6745-4E1F-99E0-996406D8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740-2523-4BF3-A97E-C4A6A8BD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B13-C688-40FE-8BCD-A7A61070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D492-8437-444D-BAE0-18E58389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5C2-7F84-4F57-9A4C-94032D22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278-2E44-4533-BE8D-B9D2FA74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DF2E-EC5B-4501-9A3E-C0DAEBCF3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b. | Since 1987, real information capital per hour in health facilities grew nearly three times as fast as in ambulatory health care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78915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b. | Since 1987, real information capital per hour in health facilities grew nearly three times as fast as in ambulatory health care services</dc:description>
  <dc:language>en-US</dc:language>
  <cp:lastModifiedBy>Jia Yao</cp:lastModifiedBy>
  <dcterms:modified xsi:type="dcterms:W3CDTF">2013-09-06T14:59:2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b. | Since 1987, real information capital per hour in health facilities grew nearly three times as fast as in ambulatory health care services</vt:lpwstr>
  </property>
</Properties>
</file>