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B14-9C6D-4018-952C-04FB07CA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23B-6727-479B-9657-17519FFA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C03-B4B4-47D5-BC57-DE1471EA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0C8-38DB-4858-AEC2-477010FF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9D5-A914-4645-8070-12D250C8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542-3EC2-4AFA-8048-DDC76463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8AA-EAB5-40CE-9D29-B295C813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E44E-4FAB-485A-9D14-F0886068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9A5-0E6B-489B-9B0B-DD7825BC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04E-9FC8-433A-8964-24DCFB72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2EAC-EA84-4641-95FF-15FCCAD5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7F0F-2CE8-4B1D-8FA5-0BF11730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5EE9-CEB6-4F5E-AA28-C5CBC179A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380880"/>
            <a:ext cx="90835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4Z</dcterms:modified>
  <cp:revision>28</cp:revision>
  <dc:subject/>
  <dc:title>PowerPoint Presentation</dc:title>
</cp:coreProperties>
</file>