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49A-E3E1-4EC1-B2A0-A9C0BF3B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95D-81AB-446A-A062-8547EED8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F44-F2C3-457F-AFF2-B1179A15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A733-995F-4650-ADC0-94C7A567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E4D-722E-4B86-A048-A056473E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CF4-33A4-43A4-8636-2297180F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8CF-F92A-4BCE-BAB0-E9B5F4BB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FF1-A743-4380-9CB0-DF211754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B56-8904-44D2-8ED1-C5AC1C57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FD2-6194-48F0-B86B-8C3E7CF7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CFB-ED63-4AB9-9ABC-4166FB9B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E3F-426D-4227-A9A7-48540F45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76BE-ABE8-4331-96BD-D4E8FC853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380880"/>
            <a:ext cx="90835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4Z</dcterms:modified>
  <cp:revision>28</cp:revision>
  <dc:subject/>
  <dc:title>PowerPoint Presentation</dc:title>
</cp:coreProperties>
</file>