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09745-BAAE-428F-8612-318CB6F093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9.4b | Information Capital per Labor Hour, Private Health Care Services and Private Business, 1987-20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7A184-48B3-42CE-B24A-6F045FE8B0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7670-A245-4BD0-A363-0C78405F4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1821-12FD-48A2-86D6-CCBA64992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9DC2-7ED1-45D5-A458-8D234C594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3AF9-A273-4C5A-8EC8-127398436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D4A8-E13A-459D-8393-BD45EDA04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5782-26D8-4AF8-8B4B-110210330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E4AE-6C5D-461C-9C8B-3AC52C09F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3E8E-01E0-46D2-BA41-0B7B9E173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0D54-4A67-48BA-BA13-92C9CA1B7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CB03-0418-4557-9788-EF39E1EAA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9919-C108-4A87-9680-22FE1811E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DCDE-98F6-45AA-8970-EB025B8D2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F983B-29AA-4ABE-B21A-51E40BCA7F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274680"/>
            <a:ext cx="89154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9.4b. | Since 1987, real information capital per hour in health facilities grew nearly three times as fast as in ambulatory health care servi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388800" y="1015920"/>
            <a:ext cx="7891560" cy="543564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9.4b. | Since 1987, real information capital per hour in health facilities grew nearly three times as fast as in ambulatory health care services</dc:description>
  <dc:language>en-US</dc:language>
  <cp:lastModifiedBy>Jia Yao</cp:lastModifiedBy>
  <dcterms:modified xsi:type="dcterms:W3CDTF">2013-09-06T14:59:22Z</dcterms:modified>
  <cp:revision>138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9.4b. | Since 1987, real information capital per hour in health facilities grew nearly three times as fast as in ambulatory health care services</vt:lpwstr>
  </property>
</Properties>
</file>