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9E1E-5ADE-4846-B094-910D0EE04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BA95-8D90-4763-9254-C4B0E590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EF99-5F59-4A62-B98B-B17760C9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B3C3-10BD-4E9D-B7AF-1DDF2DAB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C54F-F386-475F-B6E8-87DBE25F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9000-7792-443C-A959-6F6DAD0A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B271-7C49-4623-80E3-F1DC8B04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869D-FD43-40F2-B878-0ADA4937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BEE3-C72E-4144-9261-E6D0EFF0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4966-98F9-4CAB-AA3E-D44C8D52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C67E-1198-4B04-96CF-EB313797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0505-5CFF-47BD-93DD-1CF81C5D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C3E8-A286-4FFE-8193-84ADE812A9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17440" y="0"/>
            <a:ext cx="88074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2Z</dcterms:modified>
  <cp:revision>28</cp:revision>
  <dc:subject/>
  <dc:title>PowerPoint Presentation</dc:title>
</cp:coreProperties>
</file>