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F4A4-0559-44F9-B7DD-B62E6E497C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4b | Information Capital per Labor Hour, Private Health Care Services and Private Business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68BF-15DC-4BFC-990A-DD20894CE3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D4B4-DD42-4552-8188-ED8CBC085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CC12-5E00-4CA3-8E3D-554534E6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851E-ACC2-4462-80F4-DF79FFBBE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64EA-2697-4330-828E-7428AB188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03CD-678C-457E-8263-52D2AE81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3D0D-139A-480C-B173-ED96DF31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8616-A8D8-462B-98B5-366BEF6A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6456-2A49-4983-A08E-9271F36C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768D-54F2-4B50-AFDF-54243069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C396-C308-427A-99C3-9706239D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23EE-7706-4E71-B95D-CBEB1727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2719-2D77-43B0-A5D0-0254734C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59FA-2F29-44DD-9972-2326C8ACA4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4b. | Since 1987, real information capital per hour in health facilities grew nearly three times as fast as in ambulatory health care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88800" y="1015920"/>
            <a:ext cx="789156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4b. | Since 1987, real information capital per hour in health facilities grew nearly three times as fast as in ambulatory health care services</dc:description>
  <dc:language>en-US</dc:language>
  <cp:lastModifiedBy>Jia Yao</cp:lastModifiedBy>
  <dcterms:modified xsi:type="dcterms:W3CDTF">2013-09-06T14:59:22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4b. | Since 1987, real information capital per hour in health facilities grew nearly three times as fast as in ambulatory health care services</vt:lpwstr>
  </property>
</Properties>
</file>