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82F2-E500-4580-B0AF-8AEBAD6D7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4A | INFORMATION CAPITAL STOCK, HEALTH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1EAC-B6FF-47A2-B790-66365B190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8DCB-4FC2-4495-8844-60B3D233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7566-1F95-40AB-A0AB-08F95095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178-6F29-47CE-97AF-BB2802BF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2D8-CD93-40B9-91FF-4637451A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1C65-FCB6-42FE-913E-C5B758FC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CB71-FC42-45E3-AA75-55D3012A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47AC-487C-4D30-82A2-44E636D0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36F4-7026-4924-BBAD-2C7BE1D5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FB83-FBB0-4ED4-9045-0FF4B48E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9F4-51B8-4188-A639-C75E61DB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B971-39E3-47EA-85A6-85A08F67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62CB-609F-499E-943B-DD0BE660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0028-EA41-47F3-808F-A4B989607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a | Information capital stock in the health services sector has quadrupled during the past  two deca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01520" y="1244520"/>
            <a:ext cx="86360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55627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residential care facilities. It does not include pharmaceuticals or medical devices. Howev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ther office equipm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s medical and nonmedical instruments used in the health services subsec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a | Information capital stock in the health services sector has quadrupled during the past  two decades </dc:description>
  <dc:language>en-US</dc:language>
  <cp:lastModifiedBy>Jia Yao</cp:lastModifiedBy>
  <dcterms:modified xsi:type="dcterms:W3CDTF">2013-09-06T15:00:4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a | Information capital stock in the health services sector has quadrupled during the past  two decades </vt:lpwstr>
  </property>
</Properties>
</file>