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5D39-11F5-4AE5-9EDE-B5040AC4A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B | MEAN INCOMES OF WORKERS 18 AND OLDER WHO WORK FULL-TIME YEAR-ROUND IN HEALTH INDUSTRY, BY EDUCATIONAL ATTAIN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00D0-E462-41F3-86C5-AF0338B2F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5A66-CD3B-4037-B563-51F889D3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91F5-0D8F-4D73-8244-21243A3C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880D-3ED2-44A5-8CF4-A75C2592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F72-7FAD-4681-8F47-282744AB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5B7A-0331-474A-9EBD-9B3BD229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115A-6785-486D-A5A0-7A16B721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189C-0CD7-40DE-A430-C0138098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2F7C-C443-427F-8E3F-7D7AC570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0520-0670-4238-AFDF-70D4319A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689-7D2D-4532-87B1-FD59A1E3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2BBE-F776-467D-AB7C-00F16587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5BCF-5417-41A9-B322-4B98ED24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A918-43AE-48CB-9B87-85437BE0C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.3b | Average earnings for full-time, year-round workers in the health industry generally increase greatly with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7883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990720"/>
            <a:ext cx="19047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: Average earnings for full-time year-round male workers with high school diploma = 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b | Average earnings for full-time, year-round workers in the health industry generally increase greatly with education</dc:description>
  <dc:language>en-US</dc:language>
  <cp:lastModifiedBy>Jia Yao</cp:lastModifiedBy>
  <dcterms:modified xsi:type="dcterms:W3CDTF">2013-09-06T14:59:16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b | Average earnings for full-time, year-round workers in the health industry generally increase greatly with education</vt:lpwstr>
  </property>
</Properties>
</file>