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B4B4-CD25-4CBB-B03A-4F7D090B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5AE9-0E1A-4B0C-B302-4EA2A063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6C9A-8299-493A-8221-B5353786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E5B8-DBDE-424C-A288-A044178A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412-393B-45DC-AF61-ADD5149D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D8E5-3168-4694-AAFF-6E3BF79F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5F72-DE5E-4082-884D-EE7F78AF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C029-BD95-4219-B29C-876185A0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6266-F6B1-4E26-BA0B-329C80AE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5B82-73A5-4A79-BEC5-C0CB4913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7135-65C8-4C01-BF43-4631B3E4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0DCF-ACDE-4023-B984-F8F86E99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E71E-2880-489B-A93E-E4944AD7C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9080" y="1295280"/>
            <a:ext cx="91249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0Z</dcterms:modified>
  <cp:revision>28</cp:revision>
  <dc:subject/>
  <dc:title>PowerPoint Presentation</dc:title>
</cp:coreProperties>
</file>