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C21A8-7EB6-4273-B214-3E3AFD1FD8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9.3A | PERCENTAGE OF WORKERS AGED TWENTY-FIVE TO SIXTY-FOUR, BY EDUCATIONAL ATTAINMENT, 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DA4BC-2054-43FD-A1FC-3BA8C5BE86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80826-4B63-4A9B-B8E7-3A1655F87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DBDEC-0A3F-459A-AF20-5114CFD90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65314-C94B-45A4-9240-20D1B9257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8D271-AA9A-4B40-94C0-11CBBFDDD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DF236-1595-4B50-B64C-C1DF23A51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B80F1-F8E0-4BAB-88B2-7AC1A6EEE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37387-D90D-4E1B-8549-96D7D4E82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8B8C7-AEB8-4E99-BF4F-0E2FA40BF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69F4F-64AA-468F-B92F-1A98A09C9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7B28C-ADD0-464B-875A-5B3926467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33CD7-AFE4-4AE3-899D-B755A0A19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AFD3A-44A7-4942-A41D-6DA56F1C9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5AC03-8F63-49CF-B4EC-7E74D14560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8390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9.3a | For both men and women, education levels are much higher in health services than among other work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6" descr=""/>
          <p:cNvPicPr/>
          <p:nvPr/>
        </p:nvPicPr>
        <p:blipFill>
          <a:blip r:embed="rId1"/>
          <a:stretch/>
        </p:blipFill>
        <p:spPr>
          <a:xfrm>
            <a:off x="388800" y="1393920"/>
            <a:ext cx="8577360" cy="5514840"/>
          </a:xfrm>
          <a:prstGeom prst="rect">
            <a:avLst/>
          </a:prstGeom>
          <a:ln w="0">
            <a:noFill/>
          </a:ln>
        </p:spPr>
      </p:pic>
      <p:sp>
        <p:nvSpPr>
          <p:cNvPr id="50" name="TextBox 1"/>
          <p:cNvSpPr/>
          <p:nvPr/>
        </p:nvSpPr>
        <p:spPr>
          <a:xfrm>
            <a:off x="685800" y="1255680"/>
            <a:ext cx="1905120" cy="3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ercentage of workers with education level show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4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9T21:34:12Z</dcterms:created>
  <dc:creator>Trinity Technical Services</dc:creator>
  <dc:description>9.3a | For both men and women, education levels are much higher in health services than among other workers</dc:description>
  <dc:language>en-US</dc:language>
  <cp:lastModifiedBy>Jia Yao</cp:lastModifiedBy>
  <dcterms:modified xsi:type="dcterms:W3CDTF">2013-09-06T14:59:14Z</dcterms:modified>
  <cp:revision>1387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9.3a | For both men and women, education levels are much higher in health services than among other workers</vt:lpwstr>
  </property>
</Properties>
</file>