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0695-6165-4858-B698-F6D97FCB5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A | PERCENTAGE OF WORKERS AGED TWENTY-FIVE TO SIXTY-FOUR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DF25-7D61-4F4C-8695-84A7AE051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4C4-ACB4-4E12-98AF-1171EE84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4F3-56B5-46AB-8DBD-B6397BA8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707-06DD-4798-B595-18C6B3C9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27F-0395-4F02-9628-D865FB11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7C3-6F2E-4F30-ACEE-479044E2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583-1F95-4A1A-B7EC-387061B1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469-ABA0-4126-92F5-4965E077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0FB-6CFB-4F61-97EA-9A11A1C7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991-3F4C-4A43-8A56-5739415F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DD0-725E-4B29-BE19-19EB1A3F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AC8-6619-4CD2-ACEA-5A2FE3C6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7C7-9C41-4C9E-8870-2A0A5B68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9C9C-2A9C-4D5A-8BEA-1023D7B7B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a | For both men and women, education levels are much higher in health services than among other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388800" y="1393920"/>
            <a:ext cx="8577360" cy="5514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55680"/>
            <a:ext cx="1905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with education level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a | For both men and women, education levels are much higher in health services than among other workers</dc:description>
  <dc:language>en-US</dc:language>
  <cp:lastModifiedBy>Jia Yao</cp:lastModifiedBy>
  <dcterms:modified xsi:type="dcterms:W3CDTF">2013-09-06T14:59:14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a | For both men and women, education levels are much higher in health services than among other workers</vt:lpwstr>
  </property>
</Properties>
</file>