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4828-12B4-40B5-B0EE-45D12E7C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717-B446-47AD-AC4D-C8056819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1DE9-35F8-46CF-A792-2E36738F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74CE-0925-45A6-B493-4ADE448C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479-1C9B-4898-B8B8-8E452EAE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EB69-CA76-41CB-A547-68CFB0EE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920-3796-40A7-A022-F7D4612A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539-F9CB-4C79-AE8D-F538C805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B6D-6993-45C6-A006-C7A0DD17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AABC-EDB6-49E0-9AEE-1F60BFB5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65C-A36D-4CA8-9ACD-EF84082C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1132-2D08-4429-877C-37CB737E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4A1A-5E6E-4447-B8BD-73DFC1A09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9080" y="1295280"/>
            <a:ext cx="91249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0Z</dcterms:modified>
  <cp:revision>28</cp:revision>
  <dc:subject/>
  <dc:title>PowerPoint Presentation</dc:title>
</cp:coreProperties>
</file>