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D5F5-673C-4670-982D-C84BDF9C8A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3B | MEAN INCOMES OF WORKERS 18 AND OLDER WHO WORK FULL-TIME YEAR-ROUND IN HEALTH INDUSTRY, BY EDUCATIONAL ATTAINMENT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A101-7A35-4CE5-A165-149DBC1681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1B02-9D1F-4A5C-B010-16063EC3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725F-A80B-4FB7-975E-00B2BBDB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F573-21A0-44B6-81DE-44C10535C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AB48-9AAD-4CBC-9D4B-13F384B2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B22F-87FE-440D-B686-E3FEEFBA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2FB4-AA58-4E0B-8FA4-39AD3992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87A3-7E13-4CB8-8D67-3BCA75CF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E57C-F5F6-4389-9388-B3D32EF6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4808-80F5-49C3-8444-C90E6375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D189-2C5E-450C-8D77-79E73F0D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40A9-7208-4D54-B43F-0572E06E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A0BD-AAAF-495D-B05B-27E678CD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3908-5F7E-4E0A-89F0-0092CBA0C4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9.3b | Average earnings for full-time, year-round workers in the health industry generally increase greatly with 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77840" y="1168560"/>
            <a:ext cx="87883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990720"/>
            <a:ext cx="19047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 : Average earnings for full-time year-round male workers with high school diploma = 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3b | Average earnings for full-time, year-round workers in the health industry generally increase greatly with education</dc:description>
  <dc:language>en-US</dc:language>
  <cp:lastModifiedBy>Jia Yao</cp:lastModifiedBy>
  <dcterms:modified xsi:type="dcterms:W3CDTF">2013-09-06T14:59:16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3b | Average earnings for full-time, year-round workers in the health industry generally increase greatly with education</vt:lpwstr>
  </property>
</Properties>
</file>