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5B62-D3DD-4DB6-84F4-2BC30FE18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B | MEAN INCOMES OF WORKERS 18 AND OLDER WHO WORK FULL-TIME YEAR-ROUND IN HEALTH INDUSTRY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6C22-42DA-4620-A2CB-9A19BA3F6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B41-6031-42FA-97BF-30130C36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111-AE02-403F-8EAD-C12D053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456-59C8-4570-B0DD-06C6EED4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137-1D6C-4F9A-9571-90310960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250-5E39-48E7-B0BF-C6674197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518-167F-4870-8B6B-275D6221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85E-92A1-41A3-BAF3-0BA5DECA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C12-144C-43F1-AD3F-2DE8F224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699-64E9-45C7-8237-81AFC8A8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2A9-2A68-473C-A547-085F813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6A8-1B69-4FDD-880C-C853322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256-154F-4F6C-8B57-8D33509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A8E0-BD45-4F1B-9977-528646B10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b | Average earnings for full-time, year-round workers in the health industry generally increase greatly with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990720"/>
            <a:ext cx="1904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: Average earnings for full-time year-round male workers with high school diploma =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b | Average earnings for full-time, year-round workers in the health industry generally increase greatly with education</dc:description>
  <dc:language>en-US</dc:language>
  <cp:lastModifiedBy>Jia Yao</cp:lastModifiedBy>
  <dcterms:modified xsi:type="dcterms:W3CDTF">2013-09-06T14:59:16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b | Average earnings for full-time, year-round workers in the health industry generally increase greatly with education</vt:lpwstr>
  </property>
</Properties>
</file>