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971-BBFA-438D-AB20-67B1B8FB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3BF-E604-4024-8FB7-9C457C29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A9D-6F45-4E92-9F88-F7A1044D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74B-BB45-476E-9C71-4CD6B07D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479-B19F-4AB3-BF29-B6236577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94BB-E3C0-4585-BCF1-A1B461D1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5BC1-749E-44E0-9E0C-1F3BF74B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E39F-ED4A-47B3-938B-164E25F9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FEB-4720-47F0-9D19-1076BDEE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AB37-0881-4E70-9A29-7EE031AE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829-43A0-4D16-B148-62C4ACF7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6C4D-4735-4B18-9A73-79CC97B9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9AC9-72CA-4F04-8A99-BF9A8AFB2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090440"/>
            <a:ext cx="906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1Z</dcterms:modified>
  <cp:revision>28</cp:revision>
  <dc:subject/>
  <dc:title>PowerPoint Presentation</dc:title>
</cp:coreProperties>
</file>