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607-C5F4-4A63-80FA-EE4CD672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B3B-44B9-4CE8-B1A0-8C49C1E8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E9C-2060-4984-805E-E50E9881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95E-E3DA-413B-89F0-C88E7490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03B-2703-425C-8877-A39B9067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F3B-948A-4EF3-97B2-EAC4CEB0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4F8-0C7C-4351-89BF-F825FF74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E19-2D3B-4E06-B3B0-2126EF37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F00-33CC-455F-9CC2-D6AC1CA1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86B-0B1F-4071-BE0A-2EC88B79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ED1-6EBC-4DB5-AD69-D164B26E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E3C-EF34-4A68-A29E-251C8B68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3D65-EC89-4F91-986C-17FCCD991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6440" y="1371600"/>
            <a:ext cx="887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8Z</dcterms:modified>
  <cp:revision>28</cp:revision>
  <dc:subject/>
  <dc:title>PowerPoint Presentation</dc:title>
</cp:coreProperties>
</file>