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B8B4-C680-4D8A-9A46-A6B947796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a | Output per Hour and Output per Unit of Input Indexes (1987=100), Private Sector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B0DA-E8FF-495C-9CB9-0959C9FAE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FF4-F242-494E-95B7-07C12E70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1C2-13F2-4908-979D-6A495BC1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705-80E5-4E65-A0EB-8E284980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664-6D13-444F-B039-C5C09417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75C-8A9F-4B61-8E74-9E0E5BB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20A-3F18-4EF1-A1EA-C097B89A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B85-63E6-4ECC-B01B-A7E31B48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816-F704-4698-87E2-CE600FC0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431-60C9-41E3-918B-1769DCF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2A0-C56B-4FE9-9195-639CDA2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EE5-B90A-42ED-AF7E-88AACF5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993-98C8-4DAA-83B1-860E5DEC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DC99-0A95-46BC-AB0A-B8E857F36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a. Since 1987, low or negative productivity growth in ambulatory health care contrasts with steadier private sector productivity g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015920"/>
            <a:ext cx="840744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a. Since 1987, low or negative productivity growth in ambulatory health care contrasts with steadier private sector productivity gains</dc:description>
  <dc:language>en-US</dc:language>
  <cp:lastModifiedBy>Jia Yao</cp:lastModifiedBy>
  <dcterms:modified xsi:type="dcterms:W3CDTF">2013-09-06T14:59:03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a. Since 1987, low or negative productivity growth in ambulatory health care contrasts with steadier private sector productivity gains</vt:lpwstr>
  </property>
</Properties>
</file>