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104-C2A0-4EDF-A114-24F77CBB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C12-20A0-4E41-A1C5-40639C0D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528-CA2A-47B7-B2E2-C94D42D6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835-89AA-4681-9644-DF923FB8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584-FEAF-4CEB-BF05-61F659D1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A5F-DE0C-4B15-8AD5-203B876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EFA-8429-4B74-91AF-A5A06E02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089-5FF7-4665-B45A-D4C3ABBF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CB9-EB44-40C0-920A-C394FA0E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652-C171-4A3A-B329-7675F355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B2F-5511-4EAE-9D7F-7281321D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AAB-0C45-4170-87F3-9524BCD1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9189-A1FE-433D-BF8E-39315569F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6Z</dcterms:modified>
  <cp:revision>26</cp:revision>
  <dc:subject/>
  <dc:title>PowerPoint Presentation</dc:title>
</cp:coreProperties>
</file>