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4C29-83C9-46F1-A050-08B6DDC1E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b | Output per Hour and Output per Unit of Input Indexes (1987=100), Health Facilities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F222-3756-4E8F-9FE7-FDAAEFC5B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545-428F-412A-8980-B683C3A4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A1D-1C94-44FF-A286-62B88701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BCA-BFC3-4F7D-A767-73DC240F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77D-D05C-403E-831B-A84BC89D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5BF-3F5E-440F-9CF3-5B70B2FF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177-C06D-4AEE-A152-24B53F19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C9F-66B0-462D-AE80-1A754CC9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5BC-5318-43CB-B17E-E4FC8446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62E-181D-4E2F-9487-6D1937A0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59C-6CEA-4630-B6A0-B0C4631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50B-BB1E-4DA8-B1F4-D58C3C69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298-8042-4EA2-BEFB-7FE0BB5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C603-E4EF-4E73-BA0D-77493EF02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b.  Over 2 decades, health facilities hourly output rose even as productivity per unit of input remained relatively f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09480" y="5694480"/>
            <a:ext cx="84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Outpatient = ambulatory health care services; inpatient = hospitals and nursing and residential care facilit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b.  Over 2 decades, health facilities hourly output rose even as productivity per unit of input remained relatively flat</dc:description>
  <dc:language>en-US</dc:language>
  <cp:lastModifiedBy>Jia Yao</cp:lastModifiedBy>
  <dcterms:modified xsi:type="dcterms:W3CDTF">2013-09-06T15:00:3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b.  Over 2 decades, health facilities hourly output rose even as productivity per unit of input remained relatively flat</vt:lpwstr>
  </property>
</Properties>
</file>