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1659-CCC0-48CD-B008-617A77FE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301-E6AF-4B9D-991B-E90E3772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31A-3713-4FC8-BF50-5AFF7C7E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292-C9AB-47D0-A98E-7E4FF19F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080-627A-4337-911F-49DAF035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C55-821D-444A-8077-99069D70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2D1-F2BB-408F-99D4-931DEA99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F1DB-D7DB-4084-83E1-DFC07E8E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E0B4-FB70-4788-8C42-0628AA14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AE65-D4D6-4BA1-B05D-2562FB3C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79D-4E55-44AF-A684-A0137BCC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98C-1A32-436C-82BB-6B93860C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0ACB-DC84-4225-A119-7E45D92D1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5560" y="1523880"/>
            <a:ext cx="9092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7Z</dcterms:modified>
  <cp:revision>28</cp:revision>
  <dc:subject/>
  <dc:title>PowerPoint Presentation</dc:title>
</cp:coreProperties>
</file>