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EF8-18FF-44A1-BC74-AD45EF26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009-9B01-4054-975A-1A50C92A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BBF-784F-4BFF-BAB6-E0B827C1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853-752E-46EB-A8F4-909334EC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622-03D6-45EA-970B-882B99D2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54E-9EAA-4E22-92B5-B8EF2B93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EEA-C47D-4C75-A58C-E149C62F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5BB-6F00-4ABE-BF35-34EBD135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FD8-C356-4AF0-86D6-486DAD2C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6B8-CDC3-4694-A855-85EBA9EF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C79-DD20-455C-AC6B-97D3CCDB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379-4B4B-4F76-82D9-1DF992F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1797-DF04-47D5-BF38-2FF7A2FC6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320" y="1371600"/>
            <a:ext cx="909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5Z</dcterms:modified>
  <cp:revision>26</cp:revision>
  <dc:subject/>
  <dc:title>PowerPoint Presentation</dc:title>
</cp:coreProperties>
</file>