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3F26-0CE5-4753-AE02-7A70F5ED6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1b | Inputs, Output and Labor Hours in Ambulatory Health Care Indexes (1987=100), 1987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452B-898A-4A13-83CD-1774349A8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3D1-EAB1-41AE-B2EE-11AEFDCE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EE7F-BFF6-4409-89A5-C684FB7C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FFC-5164-4503-A274-1373B80B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6A5-9E99-4846-8C6D-D9A879F9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11E-2B2B-4590-94B1-3969B23E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72E-5E79-4C62-AF2A-43BE3A30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12D3-CA2D-40DC-A3CF-817C56CB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C34-7F3A-4BC2-AFF6-2ABC60C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B21-08D5-4EBC-BF52-C988B9F7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CDD-1385-4E92-92F9-7415494E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B71B-F703-4D79-9725-730E8D2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3D04-C386-4CCD-8D28-EEB628C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43B3-F30B-4786-91F6-E8B2BED90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1b. | Over the past two decades, total inputs for ambulatory health care outpaced growth in output even as growth in labor hours slowed dow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15920"/>
            <a:ext cx="81025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1b. | Over the past two decades, total inputs for ambulatory health care outpaced growth in output even as growth in labor hours slowed down </dc:description>
  <dc:language>en-US</dc:language>
  <cp:lastModifiedBy>Jia Yao</cp:lastModifiedBy>
  <dcterms:modified xsi:type="dcterms:W3CDTF">2013-09-06T14:58:59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1b. | Over the past two decades, total inputs for ambulatory health care outpaced growth in output even as growth in labor hours slowed down </vt:lpwstr>
  </property>
</Properties>
</file>