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A4938-8C66-4332-9219-80AAE0FCE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FA954-A0B7-461B-B70D-27DAEC88A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9E074-2FBF-49B7-8A6C-77FFDE6F6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8E750-FB62-4072-8C7B-5A90B7D54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F34A3-3B34-4B41-8C15-8A33EABFC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89DDC-7763-47F7-A6B3-DC9C0E6B3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EA3B4-4EFB-4F8C-95DF-75E7F885C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F616E-C6BE-4BC9-94C8-FA3329401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A2A89-C80E-4CFC-96D5-9B4831A3B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1CA4F-4F70-4E4A-83BA-B6C245F66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70BE5-9711-414E-A35B-2288254B4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F5E8E-4119-45B9-8157-1824587D3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73F73-32A6-444D-AD2D-D86C0C82B9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79200" y="149400"/>
            <a:ext cx="8988480" cy="655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9:34Z</dcterms:modified>
  <cp:revision>26</cp:revision>
  <dc:subject/>
  <dc:title>PowerPoint Presentation</dc:title>
</cp:coreProperties>
</file>