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D9DC-F453-490C-93E9-9393277EC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a | Real Output and Labor Hours in Health Facilities Index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1B37-5257-45C8-9D38-5300EC100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3B75-2438-4A38-9082-3ABFF96F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719-76C9-4700-90B5-87151477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FD1-C24C-48A6-ABF6-0A34EFC9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171-4703-474A-9754-39808F47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CB8-DB11-40AC-87B8-3300BB5D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3B5C-6148-4E33-BE8F-153306EB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09A-B1EE-4EBF-AAD9-1C8BD1A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44E-0F75-471C-B4D1-EB018560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67C5-5B62-4DB9-A79B-A767D85C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82E-ABC1-4AED-BCA6-65F1498A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8CF-A170-4033-8F79-A7E02791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EE7-A56B-4591-98A1-65CAD2A0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DED3-D000-4ECD-86CA-2F05FBFE5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a. | In hospitals and nursing homes, real output grew faster than labor hours over the past decade, but more slowly than all inputs comb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5597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a. | In hospitals and nursing homes, real output grew faster than labor hours over the past decade, but more slowly than all inputs combined</dc:description>
  <dc:language>en-US</dc:language>
  <cp:lastModifiedBy>Jia Yao</cp:lastModifiedBy>
  <dcterms:modified xsi:type="dcterms:W3CDTF">2013-09-06T14:58:57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a. | In hospitals and nursing homes, real output grew faster than labor hours over the past decade, but more slowly than all inputs combined</vt:lpwstr>
  </property>
</Properties>
</file>