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D4BA-F7DC-4C2C-B36F-6C4F9376D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35CA-B2F9-46B9-AFBC-A06D57CD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7DB2-0FAA-4692-997B-A8A8B00C5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7039-DE2B-4993-862A-F2EA2A15B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4AA5-1865-491D-A1F0-CFCD08EB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E8FA-6857-4DBB-9980-B9377F7E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35B2-FA83-4F7A-B7AB-E294474B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2967-C64F-410E-8838-868330BF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1D85-8169-4DA4-A5CC-BE0DD665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C28C-1C83-446A-9E2A-D29DF92D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31AB-667C-43BD-A6BD-07659CE8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74D3-C0D2-415B-B8FF-9F788DB0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1DC2-E8FE-43CC-BD84-7CC1880CA4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237960"/>
            <a:ext cx="9005760" cy="63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32Z</dcterms:modified>
  <cp:revision>26</cp:revision>
  <dc:subject/>
  <dc:title>PowerPoint Presentation</dc:title>
</cp:coreProperties>
</file>