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B697-F820-41FA-A289-9F3F3F0D65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1a | Real Output and Labor Hours in Health Facilities Index (1987=100)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35BE-CA58-44DE-A7E6-C21BBFCEE7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C514-21DB-4042-8E06-5221E3F8C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9A0B-DB16-4063-8600-5E80167A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87DF-99A5-46D7-A079-EA3D2D29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1A94-AE8A-473A-986F-698D56921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C37D-4DC9-48CF-AA70-8B6F3FE8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0D51-2396-42EE-B32F-AA3EADEF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4FFF-EA9D-40A6-84DC-F9EB0D7E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3073-292C-4E14-83AB-2B425E1B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BD1C-5347-4D27-AA1A-CBD6FBDE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B9A9-2871-4A94-9726-73C84C51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3732-4E17-4489-A0C1-5A6FF507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38D6-9499-443A-9D72-B988E0B4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C70F-7AE1-4974-BBCC-09C9B3E93C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1a. | In hospitals and nursing homes, real output grew faster than labor hours over the past decade, but more slowly than all inputs comb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5597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1a. | In hospitals and nursing homes, real output grew faster than labor hours over the past decade, but more slowly than all inputs combined</dc:description>
  <dc:language>en-US</dc:language>
  <cp:lastModifiedBy>Jia Yao</cp:lastModifiedBy>
  <dcterms:modified xsi:type="dcterms:W3CDTF">2013-09-06T14:58:5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1a. | In hospitals and nursing homes, real output grew faster than labor hours over the past decade, but more slowly than all inputs combined</vt:lpwstr>
  </property>
</Properties>
</file>