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F4DE-B2F4-4AE7-8D45-BE1373F56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b | Inputs, Output and Labor Hours in Ambulatory Health Care Indexes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05F0-3CA1-4370-B73A-FA90782D5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AC7-D88A-4AD4-95E1-E15E366A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140-BB94-44E7-9B29-9E4E021C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4AD9-AA3E-4F20-9B9A-5453C0BB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FA08-FBCC-4AA3-872C-68D1A82C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4FD6-8725-4D13-990E-93B454EE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6446-F09A-40C8-84F9-A83BC22F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4734-8C77-4CC1-944F-1EEE18F0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3AF-EAD7-4F08-A774-0DA57EC0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47E0-D9C7-4453-941C-3C42D585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CEBF-48E6-4D27-9DF0-4B9EA91C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D03F-A911-41A6-BAB1-FAC95F12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A62-117A-4232-8A44-B1179D1F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D718-4499-4B70-BD3B-635409A26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b. | Over the past two decades, total inputs for ambulatory health care outpaced growth in output even as growth in labor hours slowed dow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b. | Over the past two decades, total inputs for ambulatory health care outpaced growth in output even as growth in labor hours slowed down </dc:description>
  <dc:language>en-US</dc:language>
  <cp:lastModifiedBy>Jia Yao</cp:lastModifiedBy>
  <dcterms:modified xsi:type="dcterms:W3CDTF">2013-09-06T14:58:59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b. | Over the past two decades, total inputs for ambulatory health care outpaced growth in output even as growth in labor hours slowed down </vt:lpwstr>
  </property>
</Properties>
</file>