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CBE-13E8-4414-B7D0-1570CFC0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B10-7BEB-4363-80A9-2E91013A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CBA-941B-41BF-8FCC-3FA7F26B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D12-82DB-4D81-A759-AADDA828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E28-5F04-4CE5-B957-D1F3C594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A5B-4567-4B6C-B682-F4265B98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87F-7355-4FCE-B468-E470720A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F76-BA11-4C56-B8D4-4278543B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B6D-A762-4BF9-B2BA-DD9D17C5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EF8-F27A-4D06-A209-C5C30EBE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626-E854-48D4-A4D3-0D938CB4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6FB-C919-4D23-A5ED-A648E240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CA1C-BEBF-446D-8F1A-24B68CBCF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49400"/>
            <a:ext cx="898848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4Z</dcterms:modified>
  <cp:revision>26</cp:revision>
  <dc:subject/>
  <dc:title>PowerPoint Presentation</dc:title>
</cp:coreProperties>
</file>