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0AA3-6E75-4E84-AEAB-0AD424687B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6B | LIFE AND WORKING-LIFE EXPECTANCIES FOR FEMALES AGED TWENTY YEARS, 1900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4201-F835-47A9-A4DA-0C1C1BE6CE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FA86-C1B7-416A-93D4-DBD465FAD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A9D7-8DFC-4008-BC9A-094D3B91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37A4-25B8-4627-80E7-0BBE6A06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7A0C-37E3-4DE1-AC49-B555F5A79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67EE-72A1-4035-A8A1-4CD76399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86D4-BA22-4702-B103-A280C3E6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979B-7B63-4C3C-B0ED-8991670B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39BD-2871-49F8-8823-257F9967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0CF7-2AC6-4101-958D-D9A10001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5298-1DDE-49F4-9A90-355386F8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4596-779D-4F53-B161-9C79198A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E4E6-D6A6-487C-B5BF-1934928A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EFA4-43BC-40DE-9A13-39FAE5E129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6b | Increased life expectancy for females generally has been accompanied by rising working-life expectanc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85800" y="13716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dditional years of life expectancy at age 20, fem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09480" y="60958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working-life expectancies not available for females in 190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6b | Increased life expectancy for females generally has been accompanied by rising working-life expectancy </dc:description>
  <dc:language>en-US</dc:language>
  <cp:lastModifiedBy>Jia Yao</cp:lastModifiedBy>
  <dcterms:modified xsi:type="dcterms:W3CDTF">2013-09-06T15:04:20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6b | Increased life expectancy for females generally has been accompanied by rising working-life expectancy </vt:lpwstr>
  </property>
</Properties>
</file>