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AAB6-81D6-4846-A5A1-B91C5790A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A | LIFE AND WORKING-LIFE EXPECTANCIES FOR 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9239-96DC-496F-B66D-C29B1DF84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1B2-A6D8-4896-9421-676DD6D1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161-D2CC-49AB-BC3B-BA07CF33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EF4-001D-42BA-97AB-05BEE45E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D3E-7652-4D8E-8FE9-1ED43BF1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FCB-3133-4B43-863D-7A1B3A37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8F8-D43F-4E0B-992D-DECB7FFC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54CB-8509-42F6-AF80-335F8F97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411-5BED-4C7A-8F35-6473C4CB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B8E-1AD2-48D8-9BE1-F4D06183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1B4-8441-46BD-8014-6C339527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B5EA-0DD0-474F-82F1-7CB59AF8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02E-C3D4-4CF2-A863-99E6A662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5DD3-CDB4-4D25-B3A5-611E2A7A6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a | The health sector helped contribute to increasing male life expectancy over the past century, yet working-life expectancy decli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a | The health sector helped contribute to increasing male life expectancy over the past century, yet working-life expectancy declined </dc:description>
  <dc:language>en-US</dc:language>
  <cp:lastModifiedBy>Jia Yao</cp:lastModifiedBy>
  <dcterms:modified xsi:type="dcterms:W3CDTF">2013-09-06T15:04:16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a | The health sector helped contribute to increasing male life expectancy over the past century, yet working-life expectancy declined </vt:lpwstr>
  </property>
</Properties>
</file>