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16A-D9FF-44F0-B9FE-F150F2E8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7BE-C780-4C98-905C-12ED0B2F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FD8-90E7-47FB-9AA1-E7CE1C68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F89-0808-4267-8D93-F8527BFF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B81-2CB6-4496-B9FA-0F430E72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C3F8-0693-4AC8-9283-EDC0A923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825-CB5C-4570-81E1-A30D5C2A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91D-E6FD-4307-85F2-43E6F6D9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D9F6-BAA3-4998-A861-64836180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C42-21C3-4F92-8B03-A1982ABE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3B74-2650-4EBE-BB7C-97A336C5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08B-538A-438F-ADCE-74C03B21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9D94-B427-4855-BE38-AC7B61698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6480"/>
            <a:ext cx="89992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8Z</dcterms:modified>
  <cp:revision>31</cp:revision>
  <dc:subject/>
  <dc:title>PowerPoint Presentation</dc:title>
</cp:coreProperties>
</file>