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3D7F-40B1-439E-8BBC-59B5164B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8C21-40DF-48F7-A368-2EA1E56F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41CF-5079-4672-9DAF-39F2644E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5652-241F-4F93-BD0F-042FAE88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2528-E6A4-4B4C-B630-5438D500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4DB1-19CF-46C0-80AE-A3BCEA85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1010-5136-459C-81E2-C2A740D1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9BFB-2711-450B-8291-E7CDD8BB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C82F-EE3D-486F-BDBE-563FFE0A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42E1-CF65-403C-919E-2ECEE8FA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39C5-9C17-470E-A31C-33C743C7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4BD8-DFDB-42A1-99DC-752A2A64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38A6-7C86-4255-858A-A44DCED94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7000"/>
            <a:ext cx="887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3Z</dcterms:modified>
  <cp:revision>31</cp:revision>
  <dc:subject/>
  <dc:title>PowerPoint Presentation</dc:title>
</cp:coreProperties>
</file>