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D6F7-2DE6-479A-AECA-811A66A37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A | 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8056-5C1F-4012-A4E1-8FC8406E9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B47E-28A4-4C6D-A774-50501D30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2DD-2DAE-426A-BA23-2DE2CCE6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D6D-5547-4D0C-9F7A-F955EF11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732-0F25-4CA1-A3D7-AAB47A31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3375-A4E1-4665-B2CE-D99DC27E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35D-B6BC-4BE4-9A9A-647CDCCB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C684-7FE0-4FB2-9FAC-0DED7753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AFC9-D90D-4B1F-87E2-9400889F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758-7974-4D74-A1FE-798F36F2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40D-721C-47F8-AE01-3910C5C0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9AF8-E4C4-4F6B-9C90-0A1DE2E7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9D10-FC00-46CE-AAED-19B5E043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8BFD-EBDC-4FB2-B708-48E9FD500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a | Females account for more than three-quarters of health sector workers, compared to less than half of civilian employment overa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a | Females account for more than three-quarters of health sector workers, compared to less than half of civilian employment overall </dc:description>
  <dc:language>en-US</dc:language>
  <cp:lastModifiedBy>Jia Yao</cp:lastModifiedBy>
  <dcterms:modified xsi:type="dcterms:W3CDTF">2013-09-06T15:04:05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a | Females account for more than three-quarters of health sector workers, compared to less than half of civilian employment overall </vt:lpwstr>
  </property>
</Properties>
</file>