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C007-5228-448B-8882-B2465EA3C3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4B | FEMALE PERCENTAGE OF ALL EMPLOYEES BY HEALTH SUB-SECTOR AND TOTAL CIVILIAN EMPLOYMENT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BE58-8936-4809-B771-8B89C36E06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0314-D86F-479E-8C08-1D8550938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9DFA-9FFC-4FAB-A427-39C6FB45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F935-3306-42B1-B9B6-5F14AEA20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FAA8-676A-4E8A-994A-47FD67789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0FDE-73F4-434C-AC43-EE9D3704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B00A-990E-4350-8728-85F4D3EA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27EB-7E75-49D0-8BF3-9AA1C571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6791-E2B5-45CB-8CFD-935784CF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CB24-4E9D-466F-AA51-DB3027CA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403E-1270-4623-88F0-B0E966BC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4D86-4FB8-4A38-9A10-B7617BC5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B951-59E8-4E7F-94A5-1317394F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12E6-601E-48DC-BFD0-CED2C23CEF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4b | Females tend to be concentrated more in healthcare support occupations than healthcare practitioner or technical occup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50760" y="1092240"/>
            <a:ext cx="90169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4b | Females tend to be concentrated more in healthcare support occupations than healthcare practitioner or technical occupations</dc:description>
  <dc:language>en-US</dc:language>
  <cp:lastModifiedBy>Jia Yao</cp:lastModifiedBy>
  <dcterms:modified xsi:type="dcterms:W3CDTF">2013-09-06T15:04:08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4b | Females tend to be concentrated more in healthcare support occupations than healthcare practitioner or technical occupations</vt:lpwstr>
  </property>
</Properties>
</file>