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94E8-7275-4F45-B4E0-A86F05370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A | 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E0EA-48E9-4F84-9698-A5123EC03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A67-9104-4172-81C4-C54EBF20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BDA-2A12-47DD-AF42-207C33DB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D534-A3BC-47E4-A6A9-D86326B3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20C-2CD2-4BF0-853B-1679E2EF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AECB-B9F8-4DE2-884A-C208C104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BF8-C9E7-4C43-9344-F5DA0777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81A-5955-4446-99CB-43F8F622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8089-B311-4CA8-8D2B-58E86A77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6C06-2478-4006-B041-F97DD91C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5441-EAA9-4B51-9EDD-72DD27B3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1BAF-969C-40B1-A54F-30823480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E215-6ECD-4D6C-9347-0EB74B88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B280-6D0A-4C8F-8098-45D24CB45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a | Females account for more than three-quarters of health sector workers, compared to less than half of civilian employment overa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a | Females account for more than three-quarters of health sector workers, compared to less than half of civilian employment overall </dc:description>
  <dc:language>en-US</dc:language>
  <cp:lastModifiedBy>Jia Yao</cp:lastModifiedBy>
  <dcterms:modified xsi:type="dcterms:W3CDTF">2013-09-06T15:04:05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a | Females account for more than three-quarters of health sector workers, compared to less than half of civilian employment overall </vt:lpwstr>
  </property>
</Properties>
</file>