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884-0492-4D12-81A2-EFC01693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C79-5678-488F-8131-8E2583C7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FBC-0EA3-4C07-925F-0A3C53F8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CB7-F298-46DE-9BFE-184D6021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CE3-6182-4288-A044-BF4101B8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47D-8DE5-40E5-B1D8-F2581E2D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B1D-68FF-4C41-BD32-A76D1568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9A6-CDF0-486C-A015-49A772FF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1C8-B6D1-493F-9889-4DE5CE66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AAC-5932-4E91-BB56-AAA32B23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AB2-41AA-44B8-815C-F488F240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166-CF37-4278-AEF9-543B2AC6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0C28-66DD-482E-A32E-51FBA07D3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98320"/>
            <a:ext cx="912492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0Z</dcterms:modified>
  <cp:revision>30</cp:revision>
  <dc:subject/>
  <dc:title>PowerPoint Presentation</dc:title>
</cp:coreProperties>
</file>