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68B6-42F2-45F0-8D0F-489CFAD95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5D5B-76EE-4F57-8B8E-6C39ACDD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888B-A6DF-4E33-AC39-0A2BE9230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444F-763E-4B4D-A621-25EAF002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B8B5-1F1F-450E-AC62-AEB7FE8C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ECF1-ECB8-4333-A678-0E270674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F07D-2C8D-429F-A38E-CD0BEB8D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BF55-762E-478E-9EF6-D6FDC116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B90D-9612-4D26-801E-A2777E91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3989-D1AA-42F2-8A27-EB18CBC3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05CF-AD6B-41E6-995F-26135664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4F8D-2AC3-4C8D-971C-9F2F6907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1338-86C1-40FD-9F7E-E585C863C8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19040" y="0"/>
            <a:ext cx="830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35Z</dcterms:modified>
  <cp:revision>30</cp:revision>
  <dc:subject/>
  <dc:title>PowerPoint Presentation</dc:title>
</cp:coreProperties>
</file>