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C998-C3B1-4987-A292-328848C31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3B | STANDARDIZED EXPENDITURES ON MEDICAL CARE LABOR, AS A PERCENTAGE OF GDP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97F6-295C-4494-9AF2-A85D9654E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D01B-E299-4D97-8794-FA4F7BE8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17E0-1A62-47B3-B995-6BE0D6A5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0B40-E398-4885-BF92-E4DE8DCB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5C17-4048-4CCF-B77B-30F50F98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B0D6-3F40-45EA-B9C2-805EB40C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30C5-9221-4815-96E5-7E804D8E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C7C-7868-4F51-935E-62BEF589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0D1D-371A-4F79-8AFF-D0F3684B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D96F-B13D-4F3C-97D8-C15A1226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749-9457-4684-ACD5-0997E453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F57-A929-4E85-A034-FB30ED72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A9F-20F9-4BAE-B2A5-B9829453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00C1-E3D4-4B7A-B2F5-8B343B4E3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0.3b | When U.S. prices are applied to health sector employment, the U.S. has a lower relative share of GDP spent on doctors and nur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andardized spending on medical labor (U.S. Prices) as percentage of GDP in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7200" y="56386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ized spending is calculated using U.S. levels of compensation for general practitioners, MD specialists and nurses (both standardized spending and GDP measured in 2006 U.S. dollars, purchasing power parity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3b | When U.S. prices are applied to health sector employment, the U.S. has a lower relative share of GDP spent on doctors and nurses</dc:description>
  <dc:language>en-US</dc:language>
  <cp:lastModifiedBy>Jia Yao</cp:lastModifiedBy>
  <dcterms:modified xsi:type="dcterms:W3CDTF">2013-09-06T15:05:22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3b | When U.S. prices are applied to health sector employment, the U.S. has a lower relative share of GDP spent on doctors and nurses</vt:lpwstr>
  </property>
</Properties>
</file>