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41C6-A87A-4238-B988-C90B16C5B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5B13-C7BD-4883-8DF5-E75CE258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2593-D868-4B2D-96A5-8B9D38BD2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3DED-9D4B-4302-8F7F-494D36E94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43C3-A675-4193-ADD1-000ECF63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135E-D2A4-4BE6-8D12-066F0830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1836-5B52-4FEE-A22C-28BC71F5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BDB5-EEF6-4A56-9296-585593B9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8869-0A78-487B-BBBB-F56A178E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3AA0-EC0B-4AEB-99D4-25164787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4A65-27D4-4637-AF43-2981FA84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EE9B-2181-479B-9659-45A4C3F5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0F69-2598-4DF1-AD24-B8B03796E1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19040" y="0"/>
            <a:ext cx="830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35Z</dcterms:modified>
  <cp:revision>30</cp:revision>
  <dc:subject/>
  <dc:title>PowerPoint Presentation</dc:title>
</cp:coreProperties>
</file>