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B521-918B-4396-B0A5-AF1CA4C7E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F3FF-16D3-47E8-B088-C6AFF263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5CA2-8676-4E78-93A5-45F60AC67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EFB3-12F4-4351-BB63-125F4F710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D713-2E8E-42F9-80FC-89A350BD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C4AB-CB6E-4106-BEEE-58AF0427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4041-CB0A-4764-90DA-8CC17E5F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2664-10A3-43B3-B869-68BC8671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EABF-7E6C-4F2E-A026-78CBD826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2163-EA39-419A-B10F-B524D74C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FB35-C50B-4F12-A532-57A4B95A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2F5C-EB86-4AC0-864A-AB5B886A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D641-EE97-4A0C-9E2C-76A93CF90A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98320"/>
            <a:ext cx="9124920" cy="565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0Z</dcterms:modified>
  <cp:revision>30</cp:revision>
  <dc:subject/>
  <dc:title>PowerPoint Presentation</dc:title>
</cp:coreProperties>
</file>