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9EF7-611A-4B1F-9354-2C06CCE5D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B | STANDARDIZED EXPENDITURES ON MEDICAL CARE LABOR, AS A PERCENTAGE OF GDP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21DC-1634-46E8-A680-DB83BC224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FAF-D859-48A7-9316-A0E8E51D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4DF-3F6E-4A71-A65A-CFDCE94A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BD7-ED43-4A3C-BB68-550ADC83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44A-1B13-4A7B-BF50-D4D1D6E7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1DE-46E4-44D5-941F-B4E16EA5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895-2FB9-4114-B7B7-A5DDAAC4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507-5960-44A8-98B2-EBD95815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1FA-111D-4282-A73B-6976F521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40E-C5BF-4C28-A697-CD67A9C8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593-C563-41A9-90DB-F5B2300E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9F2-2344-4108-AC91-F442B1FB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BA0-47A6-4907-8069-D4A0CAC1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ED57-377B-4450-B618-0586323A0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3b | When U.S. prices are applied to health sector employment, the U.S. has a lower relative share of GDP spent on doctors and nur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ndardized spending on medical labor (U.S. Prices) as percentage of GDP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56386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ized spending is calculated using U.S. levels of compensation for general practitioners, MD specialists and nurses (both standardized spending and GDP measured in 2006 U.S. dollars, purchasing power par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b | When U.S. prices are applied to health sector employment, the U.S. has a lower relative share of GDP spent on doctors and nurses</dc:description>
  <dc:language>en-US</dc:language>
  <cp:lastModifiedBy>Jia Yao</cp:lastModifiedBy>
  <dcterms:modified xsi:type="dcterms:W3CDTF">2013-09-06T15:05:22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b | When U.S. prices are applied to health sector employment, the U.S. has a lower relative share of GDP spent on doctors and nurses</vt:lpwstr>
  </property>
</Properties>
</file>