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AD31-845B-4E9F-968F-A0E01820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B86-D0F9-44D7-B97B-38DAAD2D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3FB-9908-4777-A479-C541F2EF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E65-D05D-4BA2-95EB-69D347E9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AB7-63C9-417E-84F3-AE9D3D81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161-3220-4E6A-8B03-52485C25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0417-DF56-4992-84B7-527CCBEF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120B-830E-4F0E-B369-31090F55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F11-02F0-4050-92BE-1A3D705F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255B-1B20-4316-9D10-13C66BEC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F67-693F-4998-8426-51512174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E0C-C661-41CA-9BDF-B3CBA293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E0A4-0D3C-460A-80C8-9D2B9A70B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904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35Z</dcterms:modified>
  <cp:revision>30</cp:revision>
  <dc:subject/>
  <dc:title>PowerPoint Presentation</dc:title>
</cp:coreProperties>
</file>