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7FA8-232E-446A-942C-2ED89D960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8B17-7F1D-440E-B73E-46686DB9F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CCEF-0542-4AF6-B540-4DF526520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FAF4-116A-40D3-A557-1C81AEFB7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ADD1-60B5-44A1-9B43-701A0D1E8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4F3E-1344-4B07-AB85-A0CC7A3D3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FA13-98FB-48E3-9B08-4989FCFEE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5CAE-6958-44C8-96A2-F44F935D7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2C97-C5CC-46F3-B00A-DB0668C2D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A51B-6B99-4EF8-A87A-69BB16B4A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9564-1127-49D1-B221-3825F60F0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097E-2E4D-401B-A095-5B6A79616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F3755-0B28-4A1D-AD6D-047E4156B4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598320"/>
            <a:ext cx="9124920" cy="565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1:00Z</dcterms:modified>
  <cp:revision>30</cp:revision>
  <dc:subject/>
  <dc:title>PowerPoint Presentation</dc:title>
</cp:coreProperties>
</file>