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184-26E2-482D-8B87-87AB254C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5690-BCEB-4177-A975-8C806E1C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F70-E9E8-488F-9CC0-ABD21AB6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7D57-ACE2-4AE0-96F6-ED202DDF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1A43-4E4D-45DC-ACDB-14D41C26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3A2-0177-4AC2-A2BF-CA7A021B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A1F-4995-4A4D-8974-C7B0DD72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D8F2-5BBF-40BA-8C9A-4E12A076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BFB-9F74-4EB7-B995-7B35D16B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1ED-E46F-4660-A3F2-4A5431EF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2F47-8ED7-46AD-9E5C-4E255E19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F54-8C1B-4C02-8390-CFA4EFBF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1103-4A4B-4A9E-946F-A9B50D60D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01600"/>
            <a:ext cx="910584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8Z</dcterms:modified>
  <cp:revision>30</cp:revision>
  <dc:subject/>
  <dc:title>PowerPoint Presentation</dc:title>
</cp:coreProperties>
</file>