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4ED-5F40-4C98-A675-7AA902FD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D35-701B-49F3-B368-9A38825A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60DA-935D-455A-B185-260CDF83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3BB1-36DC-4625-90AD-72D1CED6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BA03-AA34-4E6C-911D-1FE583A4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E35-6C9B-4FD8-B12C-02E7F4FD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5B0E-4C3D-4A49-B941-818468A8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9F95-A00E-4DAA-AA1E-1482944A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724-957C-4B4A-A43D-8BCF3A7B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0BB-62DE-4DAC-91AB-2CF641A4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A9C8-FB41-44DD-99F8-CFE32109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72DB-505E-4F79-9C54-6BC18039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1013-8F50-4718-B16D-9B5359930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6600" y="0"/>
            <a:ext cx="901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7Z</dcterms:modified>
  <cp:revision>31</cp:revision>
  <dc:subject/>
  <dc:title>PowerPoint Presentation</dc:title>
</cp:coreProperties>
</file>