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0315-66D5-469D-8F88-3131B343C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5070-B109-495E-8CF7-6AB90C3AF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CB88-B84B-45BC-BA82-C79636A0E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603E-BC33-47D9-8B3C-40BA94861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DCC2-036D-4346-8009-A7434907A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E690-12D7-4172-8E7B-3886CA93D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903A-D98B-4FA5-B19C-36C1845E4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7023-1305-42A3-AF72-CBE4D1465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B7C8-B682-4BB0-8E85-903700B1B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FE18-1787-4D17-9E15-881F9FAA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FD83-B989-4A52-91CA-D3D55BEEE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322A-EF4A-4824-8980-9BB6390A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477B9-A313-4CC4-B141-983FF13F9B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9200" y="304920"/>
            <a:ext cx="8988480" cy="62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0:56Z</dcterms:modified>
  <cp:revision>30</cp:revision>
  <dc:subject/>
  <dc:title>PowerPoint Presentation</dc:title>
</cp:coreProperties>
</file>