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FDAB-E6EA-45B7-B990-D5B1F86E7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1A | AVERAGE ANNUAL GROWTH IN EMPLOYMENT FOR HEALTH SECTOR AND TOTAL U.S. EMPLOYMENT, BY DECADE, 1930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5484-F0EA-4708-998D-D55688F23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F3B-8F95-4D3B-B2D8-60470DA5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758-3E0A-4037-B2A0-6BC9FAFB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A43-16F7-44F5-8615-A4B54A4B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2AB6-2748-434A-B4F0-AE143476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B83-D018-4D62-9AC1-5C9E3DF1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041-DD46-4E0A-B8A0-6695F1FC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86B-017E-4C23-A7B4-1F8B3BBE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B3A-DECD-4A28-82D0-08CDF22B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F5D-415A-4480-8089-9179D660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425-EC5E-485E-A8C6-A03721C1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AA0-09FD-4C4D-8657-32D71885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A38-9C80-4BC6-8C6F-A9F96E24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F04C-E478-4D12-AA60-5CE49508F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1a | For 8 decades, growth in health services employment has greatly exceeded growth in all workers and those in private bu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3716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number of full-time-equivalent employees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5562720"/>
            <a:ext cx="849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all growth rates calculated through the end of the last year shown in each interv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ervices includes private sector ambulatory health services, hospitals,  nursing and residential care facilities. It does not include pharmaceuticals, medical devices, health insurance , or government hospital work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1a | For 8 decades, growth in health services employment has greatly exceeded growth in all workers and those in private business</dc:description>
  <dc:language>en-US</dc:language>
  <cp:lastModifiedBy>Jia Yao</cp:lastModifiedBy>
  <dcterms:modified xsi:type="dcterms:W3CDTF">2013-09-06T15:03:43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1a | For 8 decades, growth in health services employment has greatly exceeded growth in all workers and those in private business</vt:lpwstr>
  </property>
</Properties>
</file>