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F4E6-E1CF-456A-A2B0-E68048D9C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B | AVERAGE ANNUAL GROWTH IN EMPLOYMENT FOR DETAILED COMPONENTS OF HEALTH SECTOR AND TOTAL U.S. EMPLOYMENT, BY DECADE, 1970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93C1-9492-4919-B02B-37008A2AC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E6F-D9C6-4BD8-B33D-660263CF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342-FF17-4D44-97E6-B885D770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102-3DEC-44A1-9842-CA2C04FF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504-14F4-40D9-9434-F72378CB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0A3-DCB6-4166-A760-48C2E5C6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765-23A3-425A-8ECF-7005F52B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63A-192E-47D6-B18B-F2695D7B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8EF-909B-40FD-AA6B-36E2176B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BB7-F12B-44AF-BAFF-C0A38334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643-FEA0-4A49-9BA3-46253411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6C7-F5C1-436C-9957-76B9242D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839-6E14-4AF5-9BF4-89384A6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439F-3339-4399-A51E-796980A69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1b | Employment growth has steadily grown smaller since 1972, with the exception of hospitals, where worker growth rate increased since 200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total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548640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b | Employment growth has steadily grown smaller since 1972, with the exception of hospitals, where worker growth rate increased since 2000.</dc:description>
  <dc:language>en-US</dc:language>
  <cp:lastModifiedBy>Jia Yao</cp:lastModifiedBy>
  <dcterms:modified xsi:type="dcterms:W3CDTF">2013-09-06T15:03:4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b | Employment growth has steadily grown smaller since 1972, with the exception of hospitals, where worker growth rate increased since 2000.</vt:lpwstr>
  </property>
</Properties>
</file>