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F58C-8137-404C-AA7A-86C9E72BEC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C | TRENDS IN PROFITABILITY: RETURN ON EQUITY AMONG FORTUNE 500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HARMACEUTICALS AND MEDICAL PRODUCTS &amp; EQUIPMENT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ACB4-F089-4FD0-9FC2-8EE229BEA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0780-F28C-4B0D-B7B3-3B3B806E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DBC1-0760-4B90-A6FC-52338CF5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8BDC-69FE-43A5-A760-E551C8DB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C1E2-462F-415F-BA4C-24FED4F6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0665-274B-4B3C-A01B-4EF828CA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712D-0B23-4411-9F5A-5CE1629C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3CC7-3982-42B6-A353-A480A4C9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C4A1-E729-4F8D-AA50-4BE299EC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0704-57E4-44CD-BDCB-538C3A49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4F6C-56BF-4A53-B736-BCC74BFE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A4B8-1255-4B74-9ABF-DDDBC235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46FD-DBA9-4431-B66B-3CC326CB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ECC9-970C-4A27-8384-F9F4D362D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8.7c | Both pharmaceuticals and medical products have somewhat lower industry rankings on return on equity than other measures of prof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7883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98320" y="114300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equity (ROE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41440" y="5345280"/>
            <a:ext cx="834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E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11). While the number varies slightly by year and profitability measure, roughly 50 industries a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c | Both pharmaceuticals and medical products have somewhat lower industry rankings on return on equity than other measures of profit</dc:description>
  <dc:language>en-US</dc:language>
  <cp:lastModifiedBy>7Copy</cp:lastModifiedBy>
  <dcterms:modified xsi:type="dcterms:W3CDTF">2014-06-21T21:25:36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c | Both pharmaceuticals and medical products have somewhat lower industry rankings on return on equity than other measures of profit</vt:lpwstr>
  </property>
</Properties>
</file>