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866-EB25-4167-A562-79D4A2FC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9CBF-4541-467C-AD73-B0EFF51A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5480-C7F5-48EF-9969-CE600ABC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A18C-EE1D-4AEB-AF7C-3F106D82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87D-2515-440A-B675-C524A935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E305-F44F-4A65-9003-0BDBFF28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FF2-403D-4082-9D48-A806FE70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03BE-D722-4021-B551-01622B77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9DA5-CFA0-403F-BF66-39380043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71F-B769-4FD9-9FFC-9F56E833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0B05-5FE8-4D6C-9407-F2EAAC86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BEC-11E2-42B8-ADF5-C723270E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C63F-2E40-4AFA-BF4B-64DB2D554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76320" y="1362240"/>
            <a:ext cx="8972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50Z</dcterms:modified>
  <cp:revision>24</cp:revision>
  <dc:subject/>
  <dc:title>PowerPoint Presentation</dc:title>
</cp:coreProperties>
</file>