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083-52A6-4C30-A900-F1DFB23DC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FIRMS FOR PHARMACEUTICALS AND MEDICAL PRODUCTS &amp; EQUIPMENT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917-1B5C-4A82-B700-CD040F707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DD7-DA10-4222-8DA7-77D2881D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6AA-B764-4ED2-BF03-DF79D30D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673-0EEE-4A65-B388-B590684D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4CF-7134-4740-99EF-A3ADE425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6FC-5CAB-42BB-BAFB-FA03423C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400-15D2-4A44-88BA-CD0AB2C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A1F-F36A-4AE6-B957-23ACA83E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5C3-0A61-4FE2-BF89-0A332B0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1BD-BFAB-4EA5-B575-489C50B9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053-D110-4DAF-9F4B-A9A5C73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B39-B484-4DF8-AB28-545128E4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A8C-BD5A-4F1C-A787-23F1846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A25-31BB-4A7C-A105-A399E0F2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1480" y="1219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OR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7Copy</cp:lastModifiedBy>
  <dcterms:modified xsi:type="dcterms:W3CDTF">2014-06-21T21:23:53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