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6C724-29E6-4D59-8188-ABB601B260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8.7B | TRENDS IN PROFITABILITY: RETURN ON ASSETS AMONG FORTUNE 500 FIRMS FOR </a:t>
            </a: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PHARMACEUTICALS AND MEDICAL PRODUCTS &amp; EQUIPMENT </a:t>
            </a: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INDUSTRIES, 2005-201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4A4DA-D27A-4D85-A781-84EFA328CD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F9475-F274-4B8E-A793-F3A19258F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A5735-D4EE-456A-8F1C-9F0F6E2D0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78A2E-D267-4231-8968-FFB0FE2E6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644E5-7A71-4D23-932E-10DF36CA0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4FB3E-F15F-4ECA-B1FF-046BD2928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6B9C0-6031-40E2-9DDB-A6820C487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BD992-9471-42D3-A43B-5D0D18BE6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44A5E-9AB0-423C-B7A1-8422E0238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2CAC4-56C7-47B0-863D-39AF57B9C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ECD90-C810-4F00-AA96-C84BBA4BB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23F7E-18E2-4C34-BFCA-CFD966D83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040D5-3FEB-45B6-9EC7-CFC051369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37093-70F8-402F-9AE7-98C4A994FC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fortune.com/fortune500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89154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8.7b | Returns on assets for pharmaceuticals and medical devices also place them among the top 10 industries in the U.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558720" y="1092240"/>
            <a:ext cx="8407440" cy="58165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576360" y="1143000"/>
            <a:ext cx="555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ofits as a percentage of assets (ROA), Fortune 500 compan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1"/>
          <p:cNvSpPr/>
          <p:nvPr/>
        </p:nvSpPr>
        <p:spPr>
          <a:xfrm>
            <a:off x="547560" y="5295960"/>
            <a:ext cx="83440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ote: data labels indicate industry’s ranking on ROA for year shown (rankings not available for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2009-2011). While the number varies slightly by year and profitability measure, roughly 50 industrie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re included in each ranking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6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2"/>
          <p:cNvSpPr/>
          <p:nvPr/>
        </p:nvSpPr>
        <p:spPr>
          <a:xfrm>
            <a:off x="533520" y="6342120"/>
            <a:ext cx="8343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: Fortune. </a:t>
            </a: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Fortune 500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. Available at: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fortune.com/fortune500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9T21:34:12Z</dcterms:created>
  <dc:creator>Trinity Technical Services</dc:creator>
  <dc:description>8.7b | Returns on assets for pharmaceuticals and medical devices also place them among the top 10 industries in the U.S.</dc:description>
  <dc:language>en-US</dc:language>
  <cp:lastModifiedBy>7Copy</cp:lastModifiedBy>
  <dcterms:modified xsi:type="dcterms:W3CDTF">2014-06-21T21:24:41Z</dcterms:modified>
  <cp:revision>93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8.7b | Returns on assets for pharmaceuticals and medical devices also place them among the top 10 industries in the U.S.</vt:lpwstr>
  </property>
</Properties>
</file>