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D361-C25A-45D6-A85F-50EB7C18E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B | TRENDS IN PROFITABILITY: RETURN ON ASSETS AMONG FORTUNE 500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HARMACEUTICALS AND MEDICAL PRODUCTS &amp; EQUIPMENT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6836-EEE0-43CF-B50B-B6E6A948B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0C8-2148-43ED-B828-A55BD50E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F12-4726-4408-A70E-E9DBA91D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81F-6776-47EF-A11F-53F186E2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AA7-997E-4177-827C-14094569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D7C6-40C7-4A89-8A83-FFD589C2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4E0-9F20-4309-A256-AE89C6AD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DCDD-2867-456E-B5EA-2E3A177B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553-D675-4154-9E43-4EAE716E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740-7839-42B7-9C89-CC87ECBB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B59-797A-473B-8080-0F0B1943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A6AA-68B5-4FCE-BDCA-3EF4055F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82E9-12DC-4DD5-B724-291D5662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8B92-FF6F-44C9-BD9C-69DDD526E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7b | Returns on assets for pharmaceuticals and medical devices also place them among the top 10 industries in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40744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76360" y="1143000"/>
            <a:ext cx="55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assets (ROA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47560" y="5295960"/>
            <a:ext cx="834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A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b | Returns on assets for pharmaceuticals and medical devices also place them among the top 10 industries in the U.S.</dc:description>
  <dc:language>en-US</dc:language>
  <cp:lastModifiedBy>7Copy</cp:lastModifiedBy>
  <dcterms:modified xsi:type="dcterms:W3CDTF">2014-06-21T21:24:41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b | Returns on assets for pharmaceuticals and medical devices also place them among the top 10 industries in the U.S.</vt:lpwstr>
  </property>
</Properties>
</file>