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5991-002A-4BFB-91FC-EB337D529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BC87-2853-4AD9-BCA2-05016C84B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2531-7C85-4EAA-A397-88D1BA269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0FE6-C4CC-441C-9276-B8AF472A9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424E-34C4-420A-93E4-EFD154C9D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946E-466E-4C47-9772-2C654D68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2870-D72A-4BE4-BE87-98EC0030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5E43-82CE-4F6A-9875-E016D5F25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7A00-8A98-4C6B-AD71-50FAC91AB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4AC2-79C2-4777-9236-367E64BF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C08C-E90D-4D74-8577-1F254A02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B3E3-A530-448E-BB9D-A7BAE053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3F3E9-108F-40EE-AF9C-EECCBA74F1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1187280"/>
            <a:ext cx="8929440" cy="44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49Z</dcterms:modified>
  <cp:revision>22</cp:revision>
  <dc:subject/>
  <dc:title>PowerPoint Presentation</dc:title>
</cp:coreProperties>
</file>