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6E17-A7ED-4C7C-97C4-5D1784AEA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FIRMS FOR PHARMACEUTICALS AND MEDICAL PRODUCTS &amp; EQUIPMENT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D43-BA96-40E4-AD67-962A1A3B4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2CE-FE70-4762-80C2-DC4B244D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E9B-D09A-463B-B4A7-F887A012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E2D-18CD-48F5-9262-BBF1D15D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420-1316-4DBE-A9F1-70FF0A51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11D-B9EB-4167-8A90-8DD2833C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D39-5DA7-4AD4-9D88-A13DE504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2AB-A850-4842-A27E-6D087781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6F6-5D94-4DA1-BE89-BF99AE4F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537-FDE8-43B3-A149-EA7B3519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59F-9F6D-437B-8DC0-59E0CCE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635-463B-426E-813D-996B0992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F2C-BCF0-46BB-A523-7C82E32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5370-8BB0-47B5-A491-795D4FC1C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1480" y="12193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OR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7Copy</cp:lastModifiedBy>
  <dcterms:modified xsi:type="dcterms:W3CDTF">2014-06-21T21:23:53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