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84A7-6B39-4D6D-A8F4-EB585CE93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B | TRENDS IN PROFITABILITY: RETURN ON ASSETS AMONG FORTUNE 500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HARMACEUTICALS AND MEDICAL PRODUCTS &amp; EQUIPMENT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8F78-6849-4708-95B2-3398A40D1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2977-DEE6-4BB2-83E6-B278B596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3F3-7F36-4339-ACB4-7519FD5B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4591-4937-4797-8AD6-86E95F32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B4F-4ED3-48AA-94F7-38CAFD91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9DD3-2BD7-4593-BED0-D538922B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817-4542-4F82-8666-DBD5D5B6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18A-4878-427B-A792-3D6ACD01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5F9C-6E91-4B03-BC9D-08EEB906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786-700E-4B02-B486-7CB6BDEE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61E-97C9-42AC-9B20-E2A7B583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39A-86D9-495C-BDAB-97F6C293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EB7-F3D8-48A1-8461-FA09ECC2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43EE-4E10-4991-AE23-83C014B0A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7b | Returns on assets for pharmaceuticals and medical devices also place them among the top 10 industries in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40744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76360" y="1143000"/>
            <a:ext cx="55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assets (ROA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47560" y="5295960"/>
            <a:ext cx="834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A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b | Returns on assets for pharmaceuticals and medical devices also place them among the top 10 industries in the U.S.</dc:description>
  <dc:language>en-US</dc:language>
  <cp:lastModifiedBy>7Copy</cp:lastModifiedBy>
  <dcterms:modified xsi:type="dcterms:W3CDTF">2014-06-21T21:24:41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b | Returns on assets for pharmaceuticals and medical devices also place them among the top 10 industries in the U.S.</vt:lpwstr>
  </property>
</Properties>
</file>