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5F8-176F-4A3B-91B8-976B1818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F28-8BF0-4C3F-AC00-D11BB4C9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D6DA-176F-40F5-BCC2-D793799C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F17-EC31-4C91-BC3A-6843D733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B936-B68C-43F4-B59F-55DA1288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072-6D02-429C-BE91-346E659C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6DCC-756E-405D-8DBF-2F507005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334-3B92-4274-A708-3C879882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384D-85AA-4FB0-8405-9BF62FD8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CF4-B122-48FB-988F-630395D5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1A5-C3A9-46FB-A104-B9CD81B1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367-1AEE-4D92-9F11-EBBC7436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CBD4-3959-42F6-A2DE-37A03DF37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187280"/>
            <a:ext cx="892944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9Z</dcterms:modified>
  <cp:revision>22</cp:revision>
  <dc:subject/>
  <dc:title>PowerPoint Presentation</dc:title>
</cp:coreProperties>
</file>