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21D-174E-438E-AEDB-7AE95AB14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FIRMS FOR PHARMACEUTICALS AND MEDICAL PRODUCTS &amp; EQUIPMENT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8EB-7B2D-4D3F-AB10-AFC01B960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4A8-9DD0-4841-9FAC-C726FCDD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D7E-AEBB-45DB-B0C0-91A6A79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9E6-1312-4309-8CE2-4D1D6657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8BF-F9B6-4145-B4BA-12CAF38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950-FFA8-43F3-94F5-C2BFCC97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4F5-3EF8-4EBF-B468-9966C55A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FD6-20A8-4074-9D2E-EEDC4E5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C4E-55CB-4776-BDEC-49D8267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D24-4D05-4D86-9191-B480B445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F5A-6626-47AD-B945-88293FF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DA5-D16D-4077-B114-10DD3E0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202-C0CF-4BE3-82B5-F33BAD4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33E-B56D-46BA-A18F-0EE560B9D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1480" y="12193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OR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7Copy</cp:lastModifiedBy>
  <dcterms:modified xsi:type="dcterms:W3CDTF">2014-06-21T21:23:53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