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5234-9062-4AAE-A0CF-D9D4E16A9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B | TRENDS IN PROFITABILITY: RETURN ON ASSETS AMONG FORTUNE 500 FIRMS FOR HEALTH-RELATED SERVICES 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43CF-CE6D-4B4E-BB33-F09020428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815A-6910-41A9-A372-93778B27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BCC5-B3BE-4C23-988A-A164616E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1BD1-2CAD-4132-A017-EFE494F1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EF7F-2FA8-4C10-9CF6-47086932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82DA-0D3F-48FD-9EA3-B36F4F0E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B011-B846-4F98-A28D-3B3D792E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6282-2B74-4E2F-A4F3-A680B015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0061-4435-42C1-9FEF-5A26F357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3C7F-800D-411C-9817-E1C30C8D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7D9D-7DC5-4C87-BAD3-DBD29622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F84E-DBDB-4F37-87EE-7D0E1867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19B7-21E2-4A39-BEEA-455F71DC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A758-19E9-4977-A0B6-66A5C403D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6b | Among health-related services, retail pharmacies generally have the highest return on assets and medical facilities the low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58720" y="1092240"/>
            <a:ext cx="840744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143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assets (ROA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439560" y="5283360"/>
            <a:ext cx="851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A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b | Among health-related services, retail pharmacies generally have the highest return on assets and medical facilities the lowest</dc:description>
  <dc:language>en-US</dc:language>
  <cp:lastModifiedBy>7Copy</cp:lastModifiedBy>
  <dcterms:modified xsi:type="dcterms:W3CDTF">2014-06-21T21:14:57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b | Among health-related services, retail pharmacies generally have the highest return on assets and medical facilities the lowest</vt:lpwstr>
  </property>
</Properties>
</file>