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516-A916-402F-83BA-E4CB2C9A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FF34-B83F-4BFE-BBB7-E4BB5034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E720-28EC-4DCB-A46B-A269DE68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88A4-A384-40A7-874B-92987B76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B98C-1C4C-46BD-BCA3-A52A935F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61E-43C5-4D7B-B8AE-AA9AAE33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30AE-13FF-4940-9DD8-69E7E6A2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43D0-D855-4282-B943-8B5317A5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CB26-2838-4DAF-AEE6-26ADF6D1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B99F-536F-4D31-A7A7-5E80C727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557A-2069-4283-87D4-CA253CE0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8817-5BAD-4A29-94EC-A1DFC798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0258-779F-47A6-B981-B9BEE92EC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3320" y="1143000"/>
            <a:ext cx="8937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5Z</dcterms:modified>
  <cp:revision>22</cp:revision>
  <dc:subject/>
  <dc:title>PowerPoint Presentation</dc:title>
</cp:coreProperties>
</file>