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B427-2BC0-42C5-A029-025AEF701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479-6392-471E-BA09-591769E82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FCD-63C6-48F5-B56F-4D7D096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E7A-171A-47EA-B67A-A5D9E30E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F1E-9FC9-409A-BE30-8BAB96CC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A6F-E822-44A7-BDDA-7F0E6D5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67A-1F51-4D93-9883-DAFFD46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F48-0F35-4D19-ACA2-70AC1FA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BAC-1F57-4D70-9DB7-065317DF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C46-C1CD-4291-839C-6623369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92-CE06-45AF-937D-49896850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C78-20E4-4B9F-B6C2-D4340A5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A80-AD87-4371-A98C-57989D9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3CE-A0CF-44A5-9F40-672756E9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701C-13C7-43BE-827F-85BE380BF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.6a | Profit margins generally are highest for retail pharmacies and lowest for health care wholesalers for all health-relat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13360" y="114300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eturn on revenu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7Copy</cp:lastModifiedBy>
  <dcterms:modified xsi:type="dcterms:W3CDTF">2014-06-21T21:07:2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