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ABB2E-CA74-409C-97A5-A39C8D622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3BBD4-17F4-45FE-8334-5C97A82D8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9A2B4-225B-4B78-81B9-DCF5B86F5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3F404-E49F-4D01-A309-7A5B7D27B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BBA11-2E7E-4375-B80D-D76E5847A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287F1-B0AA-4382-8B5E-4FA42C596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0AFDE-57EE-4876-8799-C14C0B3BC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F1E04-4534-4581-951A-14A568B8F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9FC45-1F11-4CCD-8AED-BC7E7048C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132C1-FF86-45BC-9842-5B882B774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257BB-DF72-4D20-AA5A-8F8D59666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760B8-6BC1-4A95-9375-E8669B38B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53AD1-BF76-4A45-912F-C9B1E27C4F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1447920"/>
            <a:ext cx="9115560" cy="39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7:47Z</dcterms:modified>
  <cp:revision>22</cp:revision>
  <dc:subject/>
  <dc:title>PowerPoint Presentation</dc:title>
</cp:coreProperties>
</file>