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389D-CB87-413A-AC15-366A59F2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6C9C-5E64-43EE-983A-B252A654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397C-5C1F-4D38-B629-0EADF250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CA00-3896-44AC-8388-F350EA9C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B38D-0F97-40E5-B07E-0AF7EBC9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344-D4AF-4A9E-9840-7D3EA9D8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8AB-01CF-4022-926D-8B4EA7D8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BD67-5F71-4CC9-9FC7-C8C5E543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E83-9A68-475F-B5A8-D1FB4B14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FE32-29D4-4E62-92BD-779FF579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BE8E-123D-48B9-84F3-D93603D4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DD33-6F2E-4D75-A3DE-9F5E0F23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B038-5C39-4C88-BE7F-2F3DBCDFB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47920"/>
            <a:ext cx="91155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7Z</dcterms:modified>
  <cp:revision>22</cp:revision>
  <dc:subject/>
  <dc:title>PowerPoint Presentation</dc:title>
</cp:coreProperties>
</file>