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D401-F741-40A9-AA50-17AC7539A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FEE6-09AC-43D5-B411-87C121E7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90A0-A09E-48F5-B16D-2BDD5E6F3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4A5B-612F-4A57-9597-517B1EDF3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BEEC-A5C3-4F63-92C7-F681FFA3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A40A-3052-43EC-8488-506AD461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986F-42A3-4288-8DB0-0F683B72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8FEA-13ED-4E55-8BAB-412415A6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8DEE-6C67-4F13-99D8-E5EA8204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E2A6-3697-4BC1-8C7D-26603500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8543-09C5-458E-A9FC-D7523471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9823-3B29-46FC-B86B-C2AC0B80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04FB-F7F8-4B49-ADEE-A2F2018C83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03320" y="1143000"/>
            <a:ext cx="8937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45Z</dcterms:modified>
  <cp:revision>22</cp:revision>
  <dc:subject/>
  <dc:title>PowerPoint Presentation</dc:title>
</cp:coreProperties>
</file>