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0E0DB-2EBD-4F20-8663-C2C74AB81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781BD-E312-447B-8E4A-B1194F02E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2EEAD-BC16-483C-863C-F69C30FD1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C50CA-66D4-4FDD-8667-BD49167AA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B0D8E-146C-4C8E-B63C-4B061D7D9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476A3-EB3D-4784-A83C-BF0E7EE9F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CBE28-087B-473D-B5F9-61F632E5C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04C98-E6AF-4FE6-9B61-78469614F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E2778-BA45-4126-8E52-F2A749AE7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5FA3F-B1CD-45EE-9984-6AE796A53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8D957-566D-4A99-8096-F14BDA26E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87F85-4D3D-44EF-8B0E-39F4ABF6A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DE6C8-BFD5-4F50-BBA7-4D646F913A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96840" y="1143000"/>
            <a:ext cx="89503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8:09Z</dcterms:modified>
  <cp:revision>22</cp:revision>
  <dc:subject/>
  <dc:title>PowerPoint Presentation</dc:title>
</cp:coreProperties>
</file>