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01DC-5635-4BB7-9731-D72D75891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B | TRENDS IN PROFITABILITY: RETURN ON ASSETS AMONG FORTUNE 500 FIRMS FOR HEALTH-RELATED SERVICES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DA56-3369-47B2-B101-931116009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B48-9DFC-4850-B2D5-3CFF7997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68A-052F-4A12-B8D1-CDD2D39A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79E-FED9-4B54-BA63-4D177B7B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184-660B-4DC9-BC95-6588C844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FF6-E4D1-49F6-8CC1-911AF4B3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BC8-5204-4E9A-9E8F-6476C32B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124-DE71-4C8E-816E-1019F5F2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12B-EFBF-4174-BB31-730374D5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BA8-832D-4C82-B529-B65375C6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FA3-0B02-4F13-B7FA-90BEF620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9EE-B90D-4A7C-96B8-93AC5BAC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A36-CDF4-4AF4-9EAA-7DFD6680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E1DF-A971-4C36-9B94-5ED127A8A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b | Among health-related services, retail pharmacies generally have the highest return on assets and medical facilities the low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assets (ROA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39560" y="5283360"/>
            <a:ext cx="851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b | Among health-related services, retail pharmacies generally have the highest return on assets and medical facilities the lowest</dc:description>
  <dc:language>en-US</dc:language>
  <cp:lastModifiedBy>7Copy</cp:lastModifiedBy>
  <dcterms:modified xsi:type="dcterms:W3CDTF">2014-06-21T21:14:57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b | Among health-related services, retail pharmacies generally have the highest return on assets and medical facilities the lowest</vt:lpwstr>
  </property>
</Properties>
</file>