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BF24-C741-4D1B-B47B-3760A3656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A | TRENDS IN PROFITABILITY: RETURN ON REVENUE AMONG FORTUNE 500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EALTH-RELATED SERVICES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B17D-6167-40A2-8DA7-09CCB048F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C3CE-BB0C-409A-9CDA-A3A358A8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FBB7-D910-480C-A177-A27A4450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BCC-1AC9-4E3E-9857-95F9559A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C157-5BEC-4CAE-B488-F08EDDB8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1325-EF65-439F-8CAE-93D43921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7503-56ED-4E17-9E61-A0BF2D28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36B2-DF15-474D-9C88-FE288EE3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B845-34F3-47BE-9D91-7B882862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125-6B29-4DF9-87AF-3BFBCA3E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673E-DDD5-420D-868B-40F8F987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F358-7110-4682-AF5B-D37D0DA6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652-496E-4154-86DF-172075DA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6496-1C4F-45AB-9E9A-37BC2CE04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8.6a | Profit margins generally are highest for retail pharmacies and lowest for health care wholesalers for all health-relate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27080" y="1092240"/>
            <a:ext cx="878832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13360" y="1143000"/>
            <a:ext cx="67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revenue (return on revenue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a | Among health-related services, profit margins generally are highest for health plans and lowest for health care wholesalers</dc:description>
  <dc:language>en-US</dc:language>
  <cp:lastModifiedBy>7Copy</cp:lastModifiedBy>
  <dcterms:modified xsi:type="dcterms:W3CDTF">2014-06-21T21:07:21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a | Among health-related services, profit margins generally are highest for health plans and lowest for health care wholesalers</vt:lpwstr>
  </property>
</Properties>
</file>