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E141-7278-4631-BCA7-52AA9CF8B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C | TRENDS IN PROFITABILITY: RETURN ON EQUITY AMONG FORTUNE 500 FIRMS FOR HEALTH-RELATED SERVICES 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1391-9981-4D89-A5FC-8DE541D54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EEBD-8E2D-4E97-8703-F7FC0CD4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B12-8026-43E6-A805-7D4222C0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E38-C5ED-4926-9402-C227771E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7CE-BF64-41B7-B3B9-5957F3D2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3B2-87F6-4A42-AAD7-F595B9FB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A9E-782D-44CA-8770-A4090B9C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08B-A3AA-440F-B56E-7C0DF83B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61A-C5A9-4D48-A167-E7F9EB1D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952-315D-48E5-9C4E-1CCB4444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C7D-1DBC-4569-8B08-6E4702E0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3700-AA2D-4B9C-9FB8-B9E17C4F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96B-3BBA-4D81-8485-1336BBDD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88AF-27B3-4B13-AAEE-D836C3555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c | Return on equity generally exceeds 10 percent among health-related services indus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77080" y="11430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equity (ROE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486400"/>
            <a:ext cx="83437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c | Return on equity generally exceeds 10 percent among health-related services industries</dc:description>
  <dc:language>en-US</dc:language>
  <cp:lastModifiedBy>7Copy</cp:lastModifiedBy>
  <dcterms:modified xsi:type="dcterms:W3CDTF">2014-06-21T21:16:14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c | Return on equity generally exceeds 10 percent among health-related services industries</vt:lpwstr>
  </property>
</Properties>
</file>