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526B-F1B0-4B37-A075-504F57F0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693B-59F1-40D9-9470-1D584095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294C-281C-4E88-9629-85B2AC91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564F-FCD7-4519-8300-42318BAE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64C2-6FE0-4746-8194-049F4DE4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1002-282F-4F16-971B-401438C6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A871-034D-4D75-9157-F3E5A9D7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08EA-8DF8-4AF8-8B4E-F294402B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0243-19FA-469F-B299-9A3E1E8F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E370-6BDD-40C0-BFB5-5D52F998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2E0C-5C8D-44DA-9736-F023ED93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1CBF-0728-4AB6-A13D-0858A8FB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3879-28E8-437B-8876-CA4EB7F0D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6840" y="1143000"/>
            <a:ext cx="8950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8:09Z</dcterms:modified>
  <cp:revision>22</cp:revision>
  <dc:subject/>
  <dc:title>PowerPoint Presentation</dc:title>
</cp:coreProperties>
</file>