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F00E-4379-4146-AF70-22FD06E57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A | TRENDS IN PROFITABILITY: RETURN ON REVENUE AMONG FORTUNE 500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EALTH-RELATED SERVICES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7875-1358-44D1-94D3-25C194BDA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C94-1EE7-4A6B-8EDA-8DA7FDDF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A3F-EE29-40DD-8A97-63F904EE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0F8-8C2E-4BBA-8575-DE085075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B582-92AA-4EC2-B559-A3BCBD2D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C79-78CC-40F0-BBD5-20187E5E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2D3-7A00-41D9-B0A6-43904ACB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5F3-6D0E-4907-8B64-4589B717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013-0E4D-43A6-968D-9CBD839B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50A-4596-4729-A9C4-1E3AABDA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833-953B-4386-A54E-1CEDE686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0A0-4F03-470E-9B19-C3FBCBE7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140-9BD2-4B1F-BC23-8413F7AD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5883-C5ED-4415-BC3F-2ADBBA5A6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8.6a | Profit margins generally are highest for retail pharmacies and lowest for health care wholesalers for all health-relate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27080" y="1092240"/>
            <a:ext cx="878832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13360" y="1143000"/>
            <a:ext cx="67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revenue (return on revenue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a | Among health-related services, profit margins generally are highest for health plans and lowest for health care wholesalers</dc:description>
  <dc:language>en-US</dc:language>
  <cp:lastModifiedBy>7Copy</cp:lastModifiedBy>
  <dcterms:modified xsi:type="dcterms:W3CDTF">2014-06-21T21:07:21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a | Among health-related services, profit margins generally are highest for health plans and lowest for health care wholesalers</vt:lpwstr>
  </property>
</Properties>
</file>