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ABF-D522-476A-B70B-F164F3CC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F408-80AC-424D-AFC1-B1B679B6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EA75-DE7B-4BEA-B178-45CCE7AC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6DB-F00E-49F5-9433-4E15D237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1F50-15F4-4A4F-84A2-49F36981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E88-73DC-47C9-A957-B3640B68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73D8-DE94-40D2-84F0-F9FE8410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EBD7-63B5-44EC-8C57-6B8A42CA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7D7-465E-448A-8A58-74A5C613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94F-1641-49BD-B88E-EBD697B5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4578-C655-4A45-94B5-098619FD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11D-5F6E-4AEB-A7DD-6D919745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E7D2-324E-48CE-A607-BC3139FA5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6840" y="1143000"/>
            <a:ext cx="8950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8:09Z</dcterms:modified>
  <cp:revision>22</cp:revision>
  <dc:subject/>
  <dc:title>PowerPoint Presentation</dc:title>
</cp:coreProperties>
</file>