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FA33-D1FF-4C0F-96EA-DBA28A3CF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2B16-4B2D-492D-9FC5-EAA6CE325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7FE6-588E-4831-9833-82BCF1064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7BA0-CC1B-4C58-9CB9-6A1C094E2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AC0A-7B22-4CB8-851C-D82C58B29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AE0A-7DC5-488D-B8C8-E0D47562E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5F8F-0648-4944-9944-28C338684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D0CC-0B6D-419E-A545-AFA703438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C4D6-7767-402A-A6F3-48EDE6E75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1E12-0FCA-45B2-BD28-0DDA0C75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02F5-CDF4-4631-B5E2-4DB8B986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0A61-143C-4245-B376-CB46714B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5EA63-745A-456D-BAAB-F38E267F63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03320" y="1143000"/>
            <a:ext cx="89373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45Z</dcterms:modified>
  <cp:revision>22</cp:revision>
  <dc:subject/>
  <dc:title>PowerPoint Presentation</dc:title>
</cp:coreProperties>
</file>