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8843-8C82-434C-815D-9B0054857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01A5-D59C-44CD-99F6-7794C35F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739C-0FD3-4422-B919-0D8F0B1BF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3C18-27BE-4485-BB06-85124ACA8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0360-81A1-4525-8A97-3A5340CA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377B-1652-4704-8893-95E198B9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95CF-F1C1-41AD-866E-4269AD91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CA34-BDC9-49CD-B178-56EA2B4F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6AC4-AC0D-423A-8EE4-40695F80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94E0-A25C-462C-B61D-D82F2BD5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131D-8816-414D-A6CC-D0254C8C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F6F5-4837-4306-9D75-2D8C1CEA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0054-CE98-43E1-88A3-2951E76D99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422360" y="0"/>
            <a:ext cx="629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3Z</dcterms:modified>
  <cp:revision>22</cp:revision>
  <dc:subject/>
  <dc:title>PowerPoint Presentation</dc:title>
</cp:coreProperties>
</file>