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A1AC-FD77-4CE4-B9D4-2B338F9D3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A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49C7-0739-44D0-B36C-8076A8E88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D54-11DB-44A5-B7CB-184831EC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E3F-90DD-4F8D-BB94-E64038C5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744-783C-4543-A8F6-9AB11C3B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69D-D360-4CDD-8A2E-0CF4EBB0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D31-124C-41A2-A82A-32EB9CC3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5AC-5097-471A-860D-C947C1B5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358-49FC-4A9B-B262-9A91F64E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2AB-DAC1-4DD8-912D-1E1DF460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EB63-06D1-4B6B-B1DD-25865914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64A-6EFB-4B45-9776-001BE550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F17-22D5-4BA4-80DD-D0E2BAC6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619-F60D-4C11-B350-5B8AF41F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E045-D0D8-44DE-A971-9899EF485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a | Health services profits have increased substantially since the advent of Medicare and Medicaid, but still are below a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a | Health services profits have increased substantially since the advent of Medicare and Medicaid, but still are below average</dc:description>
  <dc:language>en-US</dc:language>
  <cp:lastModifiedBy>Jia Yao</cp:lastModifiedBy>
  <dcterms:modified xsi:type="dcterms:W3CDTF">2013-09-06T14:17:00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a | Health services profits have increased substantially since the advent of Medicare and Medicaid, but still are below average</vt:lpwstr>
  </property>
</Properties>
</file>