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E617-D20A-4D84-BC58-5CC6C56F56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4B | CORPORATE PROFITS BEFORE AND AFTER TAXES AS PERCENTAGES OF NATIONAL INCOME RELATED TO HEALTH CARE, 1963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01CE-B66F-491D-B7AC-CCF9D9A66C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075B-46D6-45E4-AA3A-E9633DD4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5E7B-6F0D-4F3E-B289-D1A3A488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211B-58E0-40A8-92CD-6FAEF71A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10E1-7A90-4D15-8D80-A4D447DD7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3083-BDDD-4B93-AA81-6CCEBFB6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935D-D2A9-41F4-BFCF-34AF63B6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A3A1-6647-4B60-B82D-7FA72FD0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0F86-5DCB-4EBA-8F47-71BB64D6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3CE7-5ACC-482F-A6E9-F14710E8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0A91-39E2-46A4-B7E7-9C5DF764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E664-D21D-4BCB-A8B6-9C4ACF64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3842-9CC3-45D0-B3D9-23006AEF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159F-143F-4C28-80D1-9D492EBF0E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4408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4b | Gross operating surpluses—a very crude measure of profitability—are higher in ambulatory care than in health fac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762120" y="144792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ross operating surplus (GOS) as a percentage of industry’s own national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39560" y="5410080"/>
            <a:ext cx="836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gross operating surplus (GOS) is the share of industry national income remaining after deducting compensation of employees and indirect business taxes (e.g., privilege licenses).  GOS is somewhat larger than pre-tax corporate profits since it includes net interest payments and adjustments for capital consumption and inventory valu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4b | Gross operating surpluses—a very crude measure of profitability—are higher in ambulatory care than in health facilities</dc:description>
  <dc:language>en-US</dc:language>
  <cp:lastModifiedBy>Jia Yao</cp:lastModifiedBy>
  <dcterms:modified xsi:type="dcterms:W3CDTF">2013-09-06T14:17:02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4b | Gross operating surpluses—a very crude measure of profitability—are higher in ambulatory care than in health facilities</vt:lpwstr>
  </property>
</Properties>
</file>