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4159-C288-4821-8DF9-51E0262BEC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3A | PROPRIETORS' AND RENTAL INCOME AS A PERCENTAGE OF NATIONAL INCOME FOR SELECTED INDUSTRI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207E-9592-4D05-BED8-4BC53376DE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C03C-091B-4AB7-AE6A-F50EEE83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81AE-3A09-4AB8-94F0-AAB3E566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F904-1C32-4F70-A032-9AA151F1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4D22-7D0D-40CE-A9F4-24B552FC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6111-2BA0-40AC-BD7B-EA4CB721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129A-FD32-41EA-954D-B3C41C10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7C00-6CC2-43D0-AF43-39125539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6D3C-77D6-418D-B034-D72742D7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18B6-CF01-446C-B633-2159495F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6882-6EEB-469E-8A6C-61C9B2C9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1ADE-A0DC-4664-9E35-362CA231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D92E-E946-43EA-80E7-EE4B8AE1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103F-C1FA-4787-BB6F-11BA43CB5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3a | The share of health-related national income accounted for by proprietors’ and rental income has declined dramatically over 5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5238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sector-specific national income to proprietors’ and rent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3a | The share of health-related national income accounted for by proprietors’ and rental income has declined dramatically over 5 decades</dc:description>
  <dc:language>en-US</dc:language>
  <cp:lastModifiedBy>Jia Yao</cp:lastModifiedBy>
  <dcterms:modified xsi:type="dcterms:W3CDTF">2013-09-06T14:16:56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3a | The share of health-related national income accounted for by proprietors’ and rental income has declined dramatically over 5 decades</vt:lpwstr>
  </property>
</Properties>
</file>