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65F-7700-4F36-9AF3-88B0B49B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1BD-9F90-4CE5-B143-222D44AC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893-3340-407A-9E4F-003E5812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4C7-A52B-4195-BBC4-EECDCB55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CF8-F873-4F0D-BCCF-F8F20E4C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C39-0DC3-4A6E-8762-3C98E0C1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42A-6E4E-4DE3-8E68-BD7349F6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8A3-A109-4A80-B4BF-E3908E8D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AC7-CCD8-43B0-A7DC-3F00A912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47B-06DF-471F-9B01-0A507DBF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C85-9EA3-4451-95B6-4673E57D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954-C8C5-4D23-B60F-3EB25FDE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8F57-B60A-4404-A956-1E6856218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228600"/>
            <a:ext cx="91454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0Z</dcterms:modified>
  <cp:revision>22</cp:revision>
  <dc:subject/>
  <dc:title>PowerPoint Presentation</dc:title>
</cp:coreProperties>
</file>