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07C5-0C4E-429D-B88A-32123ABD2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2A | PERCENTAGE DISTRIBUTION OF NATIONAL INCOME RELATED TO HEALTH SERVICES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5BA1-4B42-4316-A321-F18E43E079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8D23-1F0D-49BC-9F93-667DE876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165D-F24F-4C6B-B6F2-3B95E9DA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3CC9-2129-4CB6-B4A5-B14F2E1E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39AB-0B31-481A-A3C3-D1413680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36B7-A7BF-433F-A0D8-F5410368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014A-FA11-4EEB-BC98-0CA3B12B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752F-FC8F-4242-A034-7CB42A8A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849D-A02E-4400-ACEC-C1FC4106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4519-2BB0-4CC7-A98E-64A80C8F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BFDF-2EB3-45AA-B321-77D2266A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AA0D-5E3E-4B86-947B-94FBF947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2D1F-AFFB-4BE7-AD08-D16FAC23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7075-5227-4C05-BC6C-E94E0CB7A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8.2a | In health services, the share of income for wages and salaries as well as fringe benefits are higher than in the service sector or general economy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084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571500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1) ambulatory health care services, and 2) hospitals and nursing and residential care facilities. It does not include pharmaceuticals, medical devices, non-durable medical products or the health insurance indust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2a | In health services, the share of income for wages and salaries as well as fringe benefits are higher than in the service sector or general economy  </dc:description>
  <dc:language>en-US</dc:language>
  <cp:lastModifiedBy>Jia Yao</cp:lastModifiedBy>
  <dcterms:modified xsi:type="dcterms:W3CDTF">2013-09-06T14:16:52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2a | In health services, the share of income for wages and salaries as well as fringe benefits are higher than in the service sector or general economy  </vt:lpwstr>
  </property>
</Properties>
</file>