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DE7-8B2F-4C19-B40E-E22FAB60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75BF-873E-416B-8A26-7ACFD424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FEC6-F975-49C4-AEF2-98851F81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BEAB-6EC0-44EA-AFBF-66D23C31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F262-B683-495F-BFF7-0DF8DA29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7D52-8D1D-494C-A01C-FE14BDA5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F36F-B8E7-4B16-8AC5-683B3B85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7B5A-9F31-433D-95F7-7E936205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C79-2762-4FC7-BC6E-FC84B2B6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430-ABD3-4598-B884-0C183D6E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4B57-6B6B-4F8D-975D-52526673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DEB9-26A1-477A-9E1B-64E738EE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54E3-1100-4398-8702-49A063DE5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160" y="76320"/>
            <a:ext cx="9132840" cy="67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6Z</dcterms:modified>
  <cp:revision>22</cp:revision>
  <dc:subject/>
  <dc:title>PowerPoint Presentation</dc:title>
</cp:coreProperties>
</file>