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3DD-1782-492D-9001-3EB0B9E4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F7D-2543-4AC3-B4EA-C6457D50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3C4-D7D5-4075-946B-24411A3C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06B-D6FA-41A1-8314-0B4F9441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4EE-B7A5-4888-B57C-CB1FBF15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6CD-5B6D-423A-AE0E-68D31B6A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882-57C3-4024-BD4F-2F64F384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7B9-E926-4DE4-9F6B-1FD1BDB9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9F8-9333-4BA2-93CD-D281BA20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A92-A15B-45BB-BF41-568D3363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E11-2541-487F-86FC-209FC374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F22-7AEC-4443-BE47-7C8F887C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3249-54F5-4604-A800-1FC7A425D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35080"/>
            <a:ext cx="9144000" cy="63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7Z</dcterms:modified>
  <cp:revision>22</cp:revision>
  <dc:subject/>
  <dc:title>PowerPoint Presentation</dc:title>
</cp:coreProperties>
</file>