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8E21D-32CF-4219-922C-AFF0DEAAC4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.2B | EMPLOYEE COMPENSATION AS A PERCENTAGE OF NATIONAL INCOME RELATED TO HEALTH SERVICES, 1963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7BC67-0873-4B7C-A98C-1C064A7C57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AFC0-80B5-4008-9D74-3B5E871A3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4B74-AE7C-405C-A51F-5B33CD3FF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D99C-FDE5-4E95-B6B0-5E6A773BF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00F8-0D45-4974-A251-A35C2134D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2A49-83EA-448A-95AB-6B05A2D82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BBE0-F84F-4769-AD70-1C85185AD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A174-986F-4309-8BCE-A20B1C79E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5B0A-1D43-4EEC-9CD3-13B820A5C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B577-04B2-4F0D-8316-095A9B041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7419-9D67-41A9-B6B3-7508C833F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1AA4-D0BB-467A-9779-DA178979A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544D-E893-45D9-9315-E11E585CD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68220-57A0-4F77-925E-C57A70AE97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8.2b | In the health services sector, both wages and salaries and fringe benefits are substantially higher than they were 5 decades a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168560"/>
            <a:ext cx="8331120" cy="55116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85800" y="137160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national income related to health servi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traight Connector 6"/>
          <p:cNvSpPr/>
          <p:nvPr/>
        </p:nvSpPr>
        <p:spPr>
          <a:xfrm>
            <a:off x="1219320" y="1752480"/>
            <a:ext cx="0" cy="426744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8"/>
          <p:cNvSpPr/>
          <p:nvPr/>
        </p:nvSpPr>
        <p:spPr>
          <a:xfrm>
            <a:off x="1620360" y="1981080"/>
            <a:ext cx="3594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dicare and Medicaid begin (1966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3" name="Straight Arrow Connector 10"/>
          <p:cNvCxnSpPr>
            <a:stCxn id="52" idx="1"/>
          </p:cNvCxnSpPr>
          <p:nvPr/>
        </p:nvCxnSpPr>
        <p:spPr>
          <a:xfrm flipH="1">
            <a:off x="1294560" y="2165040"/>
            <a:ext cx="326160" cy="273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54" name="TextBox 7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2b | In the health services sector, both wages and salaries and fringe benefits are substantially higher than they were 5 decades ago</dc:description>
  <dc:language>en-US</dc:language>
  <cp:lastModifiedBy>Jia Yao</cp:lastModifiedBy>
  <dcterms:modified xsi:type="dcterms:W3CDTF">2013-09-06T14:16:54Z</dcterms:modified>
  <cp:revision>93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2b | In the health services sector, both wages and salaries and fringe benefits are substantially higher than they were 5 decades ago</vt:lpwstr>
  </property>
</Properties>
</file>