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8DF3-CE0B-4C96-8D0D-A1DA39487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8.2A | PERCENTAGE DISTRIBUTION OF NATIONAL INCOME RELATED TO HEALTH SERVIC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C90-4BA3-44F7-ADE3-903C5B8D3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410-3C22-408E-A331-D6E0C307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776-1EEB-4166-8B48-7A963462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4A6-E5DF-4A9A-A7B4-BDD3471B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346-E8EE-4414-899A-7A5D9FB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2B-94F2-4DEE-BA81-C10694D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F89-B54D-430B-9B6A-81796D5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7E7-CC14-4CF3-B6BC-5F4F8986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1B8-1199-4C09-9B50-19246AC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03B-1D13-4D50-8E7D-B2FA7A40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4535-7EC9-4655-9481-CB70F4D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749-E0AF-44CB-8CE2-4368387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234-4999-48A8-953D-FF95809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C51-592C-435B-95E8-4A28D1ECA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8.2a | In health services, the share of income for wages and salaries as well as fringe benefits are higher than in the service sector or general economy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084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71500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1) ambulatory health care services, and 2) hospitals and nursing and residential care facilities. It does not include pharmaceuticals, medical devices, non-durable medical products or the health insurance indust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8.2a | In health services, the share of income for wages and salaries as well as fringe benefits are higher than in the service sector or general economy  </dc:description>
  <dc:language>en-US</dc:language>
  <cp:lastModifiedBy>Jia Yao</cp:lastModifiedBy>
  <dcterms:modified xsi:type="dcterms:W3CDTF">2013-09-06T14:16:52Z</dcterms:modified>
  <cp:revision>9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8.2a | In health services, the share of income for wages and salaries as well as fringe benefits are higher than in the service sector or general economy  </vt:lpwstr>
  </property>
</Properties>
</file>