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747-C3C5-42BA-A18F-FAC8D0EB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55A-6755-419C-852B-EBB917F9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DA7-3ABE-4BC4-88A5-602E5ACF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5B0-915F-4CB9-A11A-CF777339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E778-4C0C-4520-A9AB-83BFB33E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393-22F3-45CB-B8A2-F8A84455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2C5-3F7D-47B7-A307-BBD7E9B7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CD6-13B4-4895-ACBA-C2CA9D1E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AC0-D4E0-4D11-A99B-2BF7AE2D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53A-3CC8-43EE-803E-F0B35369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EDB-ED26-4423-8110-1C9E890C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894-CA96-4C07-88E4-248EB026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009D-FE0E-45D6-9C41-4A0E14DEE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160" y="76320"/>
            <a:ext cx="9132840" cy="67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7:36Z</dcterms:modified>
  <cp:revision>22</cp:revision>
  <dc:subject/>
  <dc:title>PowerPoint Presentation</dc:title>
</cp:coreProperties>
</file>