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B74-A586-4C75-B4C7-D85557C8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D40-7CC1-47B5-A5A6-7401376C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FF8-43E1-46F3-A583-6C57C790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903-FA66-4739-9104-3F54FF97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4C3-1480-4737-8AFD-BD2462C3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523-F200-430C-99B6-2BA011F7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D22E-4555-4C8C-9AAB-9C9D95C8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765-7820-4D3C-B6C4-14706DD1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155-CE4F-45B3-AE4F-D8060B3E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66F-7A5C-4DA8-BB57-17DA2004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713-5B6F-4454-B22C-D79D706F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AF4-B168-4559-AFAF-B6ACF3D5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30DF-FF74-44F9-A2C5-71129A547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3000" y="0"/>
            <a:ext cx="86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5Z</dcterms:modified>
  <cp:revision>22</cp:revision>
  <dc:subject/>
  <dc:title>PowerPoint Presentation</dc:title>
</cp:coreProperties>
</file>