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C777-8D17-49D3-9AE3-6EE26002A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.1a | Wage and Salary Supplements, by Type, as a Percentage of National Income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7800-9525-4303-8A2B-4BBE8F386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75A-AB23-4C2C-A6D4-A2EE5BDA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B56-F61F-4F07-88CC-71758FA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513-85AB-491D-82BC-AD6A7B72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B95-35A5-46EC-870E-4990C4DC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1AA-A1E9-476E-9BA5-DF71381C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EA6-496A-4E5A-A093-0CF31D9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345-E99D-46B2-BDAB-DF58C70E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EC4-970A-43A6-B7C6-CF484EBE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1F4-83AB-4936-BC5E-5DE5F552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E76-963C-4EE4-BD67-42862AF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004-959F-4AA8-A8E8-9F40B5D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B12-36C3-45AD-A150-1EC4314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F7AC-BEB6-469D-BD4B-415F20877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1a. Despite rapid growth in health-related supplements, employee compensation as a share of national income has declined since 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14200" y="957240"/>
            <a:ext cx="856008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5943600"/>
            <a:ext cx="84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: Health-related supplements include employer contributions to health-related social insurance  (Medicare Part A, workers’ compensation, temporary disability insurance) and private group health insuran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1a. Despite rapid growth in health-related supplements, employee compensation as a share of national income has declined since 1980</dc:description>
  <dc:language>en-US</dc:language>
  <cp:lastModifiedBy>Jia Yao</cp:lastModifiedBy>
  <dcterms:modified xsi:type="dcterms:W3CDTF">2013-09-06T14:16:4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1a. Despite rapid growth in health-related supplements, employee compensation as a share of national income has declined since 1980</vt:lpwstr>
  </property>
</Properties>
</file>