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EB7D-CD7A-442F-8CC6-B015961F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67D-61E6-40F2-84CD-1486329E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7EE1-DFCC-4747-B1B1-ECDCC3B3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4FB-2B4F-4038-9A86-25AC7227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CF7-B550-45FF-A6EC-D65CC072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EA81-8526-4BD9-ADCE-1D55D42B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E4B3-7C4B-45D9-91F9-A82BCA8A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37FB-CBCD-40E1-BCBA-5C1EF766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DD74-E5F7-46C1-AEC1-FB97AF3E5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35D-5BB2-4089-B0FE-E3D7622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9E1-35D3-4DEA-9A05-9214FE2B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1FD-6324-4C47-9D3E-2BEBD4401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C32E-2CBA-485E-AFB3-D7D3887C9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057320"/>
            <a:ext cx="912492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2:53Z</dcterms:modified>
  <cp:revision>31</cp:revision>
  <dc:subject/>
  <dc:title>PowerPoint Presentation</dc:title>
</cp:coreProperties>
</file>