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FE68-9081-4B08-BED7-29B21488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CB7-3B4E-4F94-9E45-1BDC67AFC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162-5F2A-48D0-9EBB-A354BA9AD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02A4-674F-4DF4-98AA-7A59BF6A5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CD8-9D90-48B8-89B5-CFF3D432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A267-51DF-4F91-B51B-753C9893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6E3-A2D3-4FF7-B1C2-C3BB4FCA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C0A-2202-4E49-8ED7-4225D3D3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B331-FD9B-4D47-8D4E-12C63161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86F0-7D20-4D90-993A-B2B44B95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2279-52AD-4687-88AE-18B357FC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3A2D-FCA4-4E13-BFE3-042707DE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4A91-30DA-41EC-AD1E-608079C0E7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3240" y="1219320"/>
            <a:ext cx="91472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4Z</dcterms:modified>
  <cp:revision>31</cp:revision>
  <dc:subject/>
  <dc:title>PowerPoint Presentation</dc:title>
</cp:coreProperties>
</file>