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770D-15FC-4815-B5C0-2E2E139EFA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1.5b | Hours-Adjusted Annualized Internal Rate of Return on Educational Investment Over a Working Lifetime, Selected Professions, 199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0CD6-3A0A-4C57-8F30-34613BFF10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80F0-34F3-4E11-8113-A438BB382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E82D-525E-4000-9827-1EED754FD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2598-EAF8-4F43-A987-05BABBD94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4944-2A6E-4271-B921-145A50A0E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3479-8734-426C-9CD3-A72D06BA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16F5-5550-4163-AD9D-35BB7E45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A72C-B8B6-4317-A335-DEBF33F9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1535-3D38-4F97-99B2-A26AE240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5C55-2088-43C5-9F42-70D1EC5D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EDA4-1004-4FB4-AF64-EA1D24C8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437C-7346-4796-B98B-0D440A18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05D1-E100-45DE-A131-18FF357D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3140-3253-444D-A7B8-234282CAA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1.5b |  Physician specialists have higher educational rates of return than primary care doctors have, but these rates are lower than those for lawyers or for those who have MBA degre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30120" y="1625760"/>
            <a:ext cx="8636040" cy="505440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85800" y="1523880"/>
            <a:ext cx="834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ours-adjusted annualized internal rate of return on educational investment over a working lifeti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"/>
          <p:cNvSpPr/>
          <p:nvPr/>
        </p:nvSpPr>
        <p:spPr>
          <a:xfrm>
            <a:off x="865440" y="5880240"/>
            <a:ext cx="720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William B. Weeks and Amy E. Wallace. The More Things Change: Revisiting 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mparison of Educational Costs and Incomes of Physicians and Other Professional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Academic Medicin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2002;77:312-9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5b |  Physician specialists have higher educational rates of return than primary care doctors have, but these rates are lower than those for lawyers or for those who have MBA degrees.</dc:description>
  <dc:language>en-US</dc:language>
  <cp:lastModifiedBy>Jia Yao</cp:lastModifiedBy>
  <dcterms:modified xsi:type="dcterms:W3CDTF">2013-09-06T15:09:00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5b |  Physician specialists have higher educational rates of return than primary care doctors have, but these rates are lower than those for lawyers or for those who have MBA degrees.</vt:lpwstr>
  </property>
</Properties>
</file>