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EBC01-9535-4CF0-AD0B-04D780E28C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1.5c | Ratio: Median Chief Executive Officer Compensation Compared to Average U.S. Worker Compensation, 1940-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DD001-B600-4402-90C2-1B1A6EA9A9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4E9B-CC7C-4F41-880F-7883CD402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F42D-EE8A-4D5E-8E83-2FD33C4B0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ADC3-D291-41E1-B007-31A541569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134B-6EB7-4201-9B74-D62926B3E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1CDF-8E03-4682-9F0D-E6075D3D6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4D67-12AC-4D17-A020-7530D3EA5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6A75-783C-4E42-B765-A97165FD9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518D-8DFD-4ABE-B40C-F603481DA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1BA4-4DBF-4418-B416-473CCE58C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9C8A-B0FA-4441-8ED4-E6C482CF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3EC4-E9EF-4BB8-92E6-95DCE76C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4D09-7FE9-42AA-B05B-FA80B3E1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9A79A-5C55-4ECB-B944-7EDB95EB3E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1.5c | Rising returns to physician education have occurred during a period that CEO compensation also has been rapidly ris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399744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609480" y="16002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tio: median chief executive officer compensation compared t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verage U.S. worker compens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609480" y="5495760"/>
            <a:ext cx="811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New York Times. The Wide Divide. April 6, 2006. http://www.nytimes.com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magepages/2006/04/09/business/businessspecial/20060409_PAY_GRAPHIC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ml?ref=executivepay (accessed November 12, 2010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9:24:58Z</dcterms:created>
  <dc:creator>Trinity Technical Services</dc:creator>
  <dc:description>11.5c | Rising returns to physician education have occurred during a period that CEO compensation also has been rapidly rising</dc:description>
  <dc:language>en-US</dc:language>
  <cp:lastModifiedBy>Jia Yao</cp:lastModifiedBy>
  <dcterms:modified xsi:type="dcterms:W3CDTF">2013-09-06T15:09:02Z</dcterms:modified>
  <cp:revision>8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1.5c | Rising returns to physician education have occurred during a period that CEO compensation also has been rapidly rising</vt:lpwstr>
  </property>
</Properties>
</file>