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FB46-3D7F-4F74-9C43-814205BC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A19-9779-41C4-B6A6-708B4F52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C1B1-2200-4C15-B097-2C0D8B0C6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1C77-B7A2-4622-A0A1-16AE6A49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BD05-A246-4334-8F0A-4FC71F5A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8690-C971-42B2-AB7A-0BD010F3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F654-FC29-401D-8C58-933997BB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CEE5-65D5-407D-9C26-80D0F055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9F8E-F2C0-4E94-A0A3-FEBB00A3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3CB-2F12-45AF-A568-8D4E291F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95CA-22B0-431F-A602-E1395771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5BBD-DC74-4EC7-96CA-0A8E4017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06BD-DE7F-4709-8CB5-9DB039619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5Z</dcterms:modified>
  <cp:revision>31</cp:revision>
  <dc:subject/>
  <dc:title>PowerPoint Presentation</dc:title>
</cp:coreProperties>
</file>