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B171-6DF7-41A9-8042-7BA96AE97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1.5a | Hours-Adjusted Annualized Internal Rate of Return on Educational Investment Over a Working Lifetime, Selected Medical Specialties, 1955-19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C02B-8296-4F2B-895C-3724006C87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B64E-750C-45F4-A1FA-65AAA493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8EB-3D69-4FE6-A435-F84EB981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CEC0-C8F9-48F5-8120-49B53781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6DF-F610-467F-97A7-991051CA5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74E-5CE5-434B-A29F-EC5D81BC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E623-D43F-4451-B8C5-F1F6671A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337-E146-4313-A719-602AA80C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FDC-71E4-404F-B540-E5BBE7E5A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C4C0-0E2A-4767-B0D5-E5F5E2EB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BB7-D5F5-441B-8D1C-FE1E5EC8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9E0-5453-4470-A914-C2077333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1D6-3A16-4A16-A1FE-6FC4CCE3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A78D3-D442-49BA-8C71-1A4A6E05F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1.5a | The annual rate of return to medical education appears for some specialists to generally have risen over many dec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330120" y="1549440"/>
            <a:ext cx="8559720" cy="4902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609480" y="5562720"/>
            <a:ext cx="811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that interval between years is not equal. Each year represents a different study. These studies have similar but not identical methodolog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609480" y="1371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urs-adjusted annualized internal rate of return 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ucational investment over a working life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2T19:24:58Z</dcterms:created>
  <dc:creator>Trinity Technical Services</dc:creator>
  <dc:description>11.5a | The annual rate of return to medical education appears for some specialists to generally have risen over many decades</dc:description>
  <dc:language>en-US</dc:language>
  <cp:lastModifiedBy>Jia Yao</cp:lastModifiedBy>
  <dcterms:modified xsi:type="dcterms:W3CDTF">2013-09-06T15:08:55Z</dcterms:modified>
  <cp:revision>8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1.5a | The annual rate of return to medical education appears for some specialists to generally have risen over many decades</vt:lpwstr>
  </property>
</Properties>
</file>