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152A-4567-42B9-A673-CC3379067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B | RATIO OF COMPENSATION FOR HOSPITAL NURSES TO COMPENSATION FOR ALL WORKERS, U.S. AND SELECTED OEC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ABC0-C5A8-489E-BB4F-DDBDE2BD6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D4C-DDD5-4993-B657-C6606654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BAF-58BD-4FD3-B48B-D8C664E2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612-7E77-4AF6-AD4B-E1287366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B81-CCF6-49EF-8E71-4C77FB5B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0DB-0282-467F-A26D-CB468421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2EE-8FCC-40E3-90F7-DE957FA5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15A-4E5D-4B5A-A905-9798AE1C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161-4E38-4A28-B634-70A85520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3FF-3EA2-4478-B784-F147D654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7EA-633A-4A3C-B815-11F2C615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B1A-A772-4D27-9707-9E06DEA0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DD4-B744-4255-9DEE-859FE225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2A2F-1E2F-41AF-8AA7-8770DF280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4b |  American h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ospitals nurses are paid more than twice the average worker wage, but the same is true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14080" y="1752480"/>
            <a:ext cx="79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annual compensation of salaried hospital nurses relative to all workers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b |  American hospitals nurses are paid more than twice the average worker wage, but the same is true elsewhere</dc:description>
  <dc:language>en-US</dc:language>
  <cp:lastModifiedBy>Jia Yao</cp:lastModifiedBy>
  <dcterms:modified xsi:type="dcterms:W3CDTF">2013-09-06T15:08:5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b |  American hospitals nurses are paid more than twice the average worker wage, but the same is true elsewhere</vt:lpwstr>
  </property>
</Properties>
</file>