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7442-71DA-465B-BD08-21A736EF9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2320-44B8-4D28-8D27-904E5A865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268B-3E3F-4A32-827C-4CF1F4E64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1E66-826D-4A7E-BB62-751AD3226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FDEF-E635-4499-A947-0325F5054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257F-5D88-4703-85A1-74A8592FD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70D9-6547-4728-BDAC-5A5E2243B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4CAE-1D96-4231-976F-6E5F0829B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0B5E-35C0-43C1-9A6D-41C7A3D58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316F-98C1-4305-AE19-BE05EA00B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B35D-65EC-4FEF-AEBF-8291ADFAC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4168-8DDD-43DB-8D0D-BE957A8A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7455E-47A8-4EF8-9881-70AA5AE72C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52280"/>
            <a:ext cx="9090000" cy="659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2:50Z</dcterms:modified>
  <cp:revision>31</cp:revision>
  <dc:subject/>
  <dc:title>PowerPoint Presentation</dc:title>
</cp:coreProperties>
</file>