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92E8-8988-4331-8847-7F26ED0F5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4A | RATIO OF PHYSICIAN COMPENSATION TO GDP PER CAPITA, GENERALISTS AND SPECIALISTS, U.S. AND OECD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226B-9667-4312-9672-06F3B5B85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DCA-A367-4A9C-8A80-7EB36026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D3E-4BCB-407D-8BF0-D8DB205B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E90-2F62-40B4-9AB4-74D771CB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8CC-782E-4026-9EE7-80CE1E04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E46-B646-466A-A910-E13C48EA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9D6-FD24-4726-9041-C3763750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7F21-CD45-4ECB-A4D2-574C5629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D70-BA3E-4631-94AB-6872B2C2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0551-1B00-417C-A944-FFFE1AF3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D12-88EE-4B44-BEF6-9458BC2E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DF0-27CD-4BD5-A7E6-2AA07107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E09-2A74-401A-8C13-CAE356E7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683F-536A-40D4-9F00-5AFFB250E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4a | Physicians and nurses are paid relatively more in the U.S. than in other OECD countries, but the largest pay differential is for speciali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0640" y="137160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annual compensation to own country GDP per capita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4a | Physicians and nurses are paid relatively more in the U.S. than in other OECD countries, but the largest pay differential is for specialists </dc:description>
  <dc:language>en-US</dc:language>
  <cp:lastModifiedBy>Jia Yao</cp:lastModifiedBy>
  <dcterms:modified xsi:type="dcterms:W3CDTF">2013-09-06T15:08:49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4a | Physicians and nurses are paid relatively more in the U.S. than in other OECD countries, but the largest pay differential is for specialists </vt:lpwstr>
  </property>
</Properties>
</file>