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104-96E6-491C-95B8-31514F1A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E44-2A01-4A88-9C56-41C9C2BE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F84-B74A-4B42-85FE-0F937CF7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23D-C7F7-46D6-9470-A58EF862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C24-DFB8-404B-BFA5-6D6F59A9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4B5-3452-48B0-9A2E-0AB92985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C10-01B5-480D-80BB-EAB128AF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D0A-DD3F-4588-9D98-C068627F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EF5-5CA4-4A9D-AD6E-6F3E026D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C0A-8203-47C3-A212-B5A36279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DD2-C69B-416B-9DAC-49E71C52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705-7283-4639-89D8-ED1602D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55B3-3831-490C-BCE7-9629290A2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773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9Z</dcterms:modified>
  <cp:revision>31</cp:revision>
  <dc:subject/>
  <dc:title>PowerPoint Presentation</dc:title>
</cp:coreProperties>
</file>