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EBB-84EA-4694-BB0E-9F84D032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FCB-4766-4AE8-BFF8-3CF8D277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D38-1725-4C5C-B4EF-9789E142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648-8580-43FC-8699-F54E05EA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634-1520-42A3-A440-CEC6712E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C30D-2D37-4C43-922D-7B4E483C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4BF-356E-4FCB-800D-F6CBE481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9D3-33A1-4704-B60C-1216BD0A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379-5306-498A-BA26-3AC17821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FCC-5998-40C5-B091-C1430215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073-65BF-49D3-BAAC-9BD47D12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B92-714A-4D32-AEE0-DC69F760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B15B-3142-4FAF-A3FB-6D1F8AC05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228600"/>
            <a:ext cx="9061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8Z</dcterms:modified>
  <cp:revision>31</cp:revision>
  <dc:subject/>
  <dc:title>PowerPoint Presentation</dc:title>
</cp:coreProperties>
</file>