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59FD-1DD3-4C25-AF2E-20CB22A18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C106-6882-4F66-8796-38C2B6226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4A04-9C1F-4A35-BFBB-186F8F519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1583-A06C-4E8B-A660-F3D0C5B21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7F4C-E09C-4E26-A409-68BDC1C84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73C5-1304-4F3D-A1BE-EB69E2065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6599-3B38-49AD-B0A1-541568D2F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9144-DE6C-42FD-A51E-B70F8AB10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92E9-14A9-47DE-ACD0-2F3C87A07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D8F6-7968-4152-9269-C769C016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F73E-C172-457B-B30A-70D6D82F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E981-FE4A-48C5-B326-3F558865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EB9DE-CFAA-4B48-89A5-8E02A2A06C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1400" y="228600"/>
            <a:ext cx="90612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2:48Z</dcterms:modified>
  <cp:revision>31</cp:revision>
  <dc:subject/>
  <dc:title>PowerPoint Presentation</dc:title>
</cp:coreProperties>
</file>