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55D5-15BF-46C7-BAD5-BAD827599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3a | Real Hourly Output and Real Hourly Compensation, Private Sector and Ambulatory Health Service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6E7C-794F-41D6-BEC5-A9C2290BD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067-7E56-4754-8635-1EC39512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926-3192-491C-B310-15EB78E1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ACCF-B08F-428E-BE7A-46CA72BA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4FD-B2E5-4E09-A818-2DBDEA1E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B316-5EB7-409E-9418-1AEE3F9D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145-2D44-4EE2-8DD0-A46B461C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1B90-A474-492E-87EE-46B2E34E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C4E-54F1-4591-ABB7-CAE81FB4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BB5-76DE-4FDE-8D00-3620E79A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588-E79D-453B-8505-86718AC2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C1F-7296-4AB8-B474-B6D49C64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58E-9961-46DF-B3FE-C3EAEB05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9C41-64AC-40D7-82BE-4F745FDBA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3a | In terms of worker purchasing power, real hourly compensation in ambulatory health care matches changes in hourly output over the long ha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9320" y="137160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3a | In terms of worker purchasing power, real hourly compensation in ambulatory health care matches changes in hourly output over the long haul </dc:description>
  <dc:language>en-US</dc:language>
  <cp:lastModifiedBy>Jia Yao</cp:lastModifiedBy>
  <dcterms:modified xsi:type="dcterms:W3CDTF">2013-09-06T15:08:4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3a | In terms of worker purchasing power, real hourly compensation in ambulatory health care matches changes in hourly output over the long haul </vt:lpwstr>
  </property>
</Properties>
</file>