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1611-940C-4862-AF64-4CEF42188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b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1224-2AB4-4E4C-9F85-868D27CD3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770-5243-4A3A-AD8D-73E8DBF2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E5B-E649-4914-8737-E4527FB6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639-696D-43A2-82BE-8E30ED9D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9CC-B157-44B2-AC54-8DA2FF64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CC6-7B1A-476F-97BD-8F88CB15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A83-B5B5-458D-BFCC-A1E6F368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320-6CE3-42AB-8FE5-9EE7FC6E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849-06A0-4B60-8F80-5D212EB0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A94-B477-4392-961D-AEE1B22F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D7C-3225-4D1B-8758-01970507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D38-A859-4743-B147-C38EC938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B68-CFC8-4CA1-B749-B5BAB67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636B-5279-4F94-9725-5F95C3246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b | Relative to the price of hourly output, real hourly compensation in ambulatory health care has fallen since 1992; it rose in private business overa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6680" y="1447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b | Relative to the price of hourly output, real hourly compensation in ambulatory health care has fallen since 1992; it rose in private business overall </dc:description>
  <dc:language>en-US</dc:language>
  <cp:lastModifiedBy>Jia Yao</cp:lastModifiedBy>
  <dcterms:modified xsi:type="dcterms:W3CDTF">2013-09-06T15:08:4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b | Relative to the price of hourly output, real hourly compensation in ambulatory health care has fallen since 1992; it rose in private business overall </vt:lpwstr>
  </property>
</Properties>
</file>