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E9C2D-467C-423F-B666-B9265B55C4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1.2b | ANNUAL COMPENSATION IN HEALTH SERVICE INDUSTRY BY SUB-SECTOR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6114A-EDC5-49E1-90D2-8356A23DC0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3171-8624-4101-9CBD-6AAFAF7F1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923F-90DD-4594-8A8A-0EDAC3172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0645-5C5F-48D3-89E8-A33BC9EEF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DA30-6AF4-4031-B190-7632F15B1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01BA-2B36-41FB-9C6F-F0CFAAAE2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37E1-1055-4F38-B79C-8813CF641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06C0-0BDC-4576-81F1-1EB2CEA3F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2BC9-B095-4AB5-8EBB-2982B1ECB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468A-CD8C-47AD-B6B4-E14D880DB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570D-4E9D-4550-B3FE-F5190EC13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20A6-D9F3-413E-9359-78D0D021E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0639-407F-41A0-8996-9880F9E05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34C1B-8645-49B3-925B-12F03E9C41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1.2b | Average annual compensation is much lower in long term care facilities such as nursing homes than elsewhere in health c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092240"/>
            <a:ext cx="8331120" cy="5359320"/>
          </a:xfrm>
          <a:prstGeom prst="rect">
            <a:avLst/>
          </a:prstGeom>
          <a:ln w="0">
            <a:noFill/>
          </a:ln>
        </p:spPr>
      </p:pic>
      <p:sp>
        <p:nvSpPr>
          <p:cNvPr id="50" name="TextBox 1"/>
          <p:cNvSpPr/>
          <p:nvPr/>
        </p:nvSpPr>
        <p:spPr>
          <a:xfrm>
            <a:off x="609480" y="1371600"/>
            <a:ext cx="68817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nnual compensation per full-time-equivalent worker (2008 dollar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4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2T19:24:58Z</dcterms:created>
  <dc:creator>Trinity Technical Services</dc:creator>
  <dc:description>11.2b | Average annual compensation is much lower in long term care facilities such as nursing homes than elsewhere in health care</dc:description>
  <dc:language>en-US</dc:language>
  <cp:lastModifiedBy>Jia Yao</cp:lastModifiedBy>
  <dcterms:modified xsi:type="dcterms:W3CDTF">2013-09-06T15:08:38Z</dcterms:modified>
  <cp:revision>81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1.2b | Average annual compensation is much lower in long term care facilities such as nursing homes than elsewhere in health care</vt:lpwstr>
  </property>
</Properties>
</file>