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3FA-6D68-48BA-B8C0-65E0767E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999-583D-40FB-988F-BC54B106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8C3-EDD2-4385-B785-EB282562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265-2275-4D8B-9F39-054FFA9B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7E3-1138-4338-A0F9-9784A72A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58C-7068-4646-9DDD-4F82B09C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226-772D-42C9-9085-0F050172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22D-74FD-44D1-891F-7DCD67BF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4C4-4FD0-4F9E-A1DE-7E19166F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FD3-D405-4064-A1AB-060A3F15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FD3-BB82-4487-AB52-B833D1E8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0C5-3424-4F48-98D4-B06CCD8F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C25C-5844-4774-B8E6-FFB239F68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6Z</dcterms:modified>
  <cp:revision>30</cp:revision>
  <dc:subject/>
  <dc:title>PowerPoint Presentation</dc:title>
</cp:coreProperties>
</file>