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BA31-5DE2-41D9-980D-6CA3C1B8B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A | ANNUAL COMPENSATION PER FULL-TIME EQUIVALENT WORKER, HEALTH SERVICE INDUSTRY AND OTHER MAJOR INDUS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E898-0D1E-45C6-952C-52B2CE45B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503-F1DC-481A-BEF0-7ABB2033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CB7-7795-48AE-ACA1-21D94F33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34A-CA2C-4AF8-82C9-2264F33E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CCC-5077-4C26-8ED5-1112A239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811-1246-4DFA-90D2-0899837B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F02-A93E-45E5-A10E-DC82EB1A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331-B1AC-4BA9-A9D2-7A3EAC68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F9B-9F91-4949-B60A-3800E38C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6D6-AC3B-47D7-8F8E-060F6CD7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43A-C6AF-46D8-8425-4451824B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3C3-0B3C-4490-9BCC-BFC33AAE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DFE-69BC-4F4C-9FA4-AD482628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AFEF-DA79-453B-BE5B-1991DD46F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2a | Average compensation in the health care industry is higher than in the rest of the service sector but lower than for public employ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279360" y="1015920"/>
            <a:ext cx="101599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a | Average compensation in the health care industry is higher than in the rest of the service sector but lower than for public employees</dc:description>
  <dc:language>en-US</dc:language>
  <cp:lastModifiedBy>Jia Yao</cp:lastModifiedBy>
  <dcterms:modified xsi:type="dcterms:W3CDTF">2013-09-06T15:08:36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a | Average compensation in the health care industry is higher than in the rest of the service sector but lower than for public employees</vt:lpwstr>
  </property>
</Properties>
</file>