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6F94-9F50-484B-87FB-4168F36D6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b | Trends in Health Spending as a Percent of Gross State Product, by Region, 198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47C3-2303-4CEF-AF4F-DB68E4A10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162-2EEF-4C8D-8F6D-E017D7A6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E44-58AA-4E21-9795-8955932A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189-3185-466F-8944-FBF38869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2F5-1AA7-4274-927F-BEBE78E7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A52-5AFD-4C5D-8F6F-3EEB6B85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B93-8757-4D28-92F3-C65782EA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68A-6A41-4CA0-816A-93800342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864-76BA-4930-A71B-B513E219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B0B-401E-4FC0-9E35-0A916DB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A5E-73E5-4748-9967-53789694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253-0FA9-4C79-BBBA-58BACDC0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C5A-4271-4F67-BDD0-9AC22D7D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693F-4FB7-44A3-84B5-7990A0047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b | In just in one quarter century, there have been large changes in the relative burden of health spending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health spending as a percent of gross state product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7b | In just in one quarter century, there have been large changes in the relative burden of health spending across regions</dc:description>
  <dc:language>en-US</dc:language>
  <cp:lastModifiedBy>Jia Yao</cp:lastModifiedBy>
  <dcterms:modified xsi:type="dcterms:W3CDTF">2013-09-06T15:13:27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7b | In just in one quarter century, there have been large changes in the relative burden of health spending across regions</vt:lpwstr>
  </property>
</Properties>
</file>