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ED9-3A65-455C-A44C-013A6F32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FC1-97C4-4B0D-9654-8A6F161C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09E-AADD-480C-872F-049B5CD7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835-9B61-428E-911B-FA24F196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D29-7E7C-4187-9819-999D2BD6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326-343A-487A-9D9D-A633314D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E77-A0CB-45D0-AC6A-527C5ED2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A17-393C-48D3-9FD3-62973DB9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FD4-6622-4611-859E-3F0CC3E5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66F-6164-4866-96A6-64D38460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24F-FD80-4749-B8DE-B8967A7E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DF9-1BB3-4616-9260-66D8E9B0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7FF8-EE5B-46B5-9E78-BC776D34C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192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5Z</dcterms:modified>
  <cp:revision>31</cp:revision>
  <dc:subject/>
  <dc:title>PowerPoint Presentation</dc:title>
</cp:coreProperties>
</file>