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FC5-D117-4433-BD3A-D50E2499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760-28C2-4B33-91AF-47930153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A4E-6CA9-422A-B984-B9A4FB6F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4E2-8E89-4056-A1FB-66570EEE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46E-3F4B-448A-9A75-B2FC8AE2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DCF-A6C4-4EBB-81C1-D141C14B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442-86EA-4D76-8210-20DA255F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51E-7E35-49BA-9BF4-84F0209D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62E-C9F2-4DFB-B795-E1C686F7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9DA-8D8D-4F51-B854-676872B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2FF-5029-40C0-8AF9-A4F08EF2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CAD-6683-42EF-89FF-7EFE24E8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4587-B463-4244-8D7D-E5F987BCC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79440"/>
            <a:ext cx="9140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4Z</dcterms:modified>
  <cp:revision>31</cp:revision>
  <dc:subject/>
  <dc:title>PowerPoint Presentation</dc:title>
</cp:coreProperties>
</file>