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FC8C-CBBC-47CF-ACAC-FA90A8FB4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3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a | Per Capita Income and Health Spending as a Percent of Gross State Product, by State of Residence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0D5-F9FC-4A92-8318-7AB5CBCB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958-542D-4744-A5BE-577DA681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401-F42D-4469-9304-B6F9F71D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190-87A4-429D-804A-D9FEA796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54E-3CF9-41A3-90D5-54AC3391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940-EDD6-46CE-A914-7EA0C5F0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4FEC-A724-4376-937B-E39E36EA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95F-82C7-4AD7-A4C6-0726CDFD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5D2-DF29-4347-8717-137BD030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A00-2593-4C47-BC64-30BBA050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5F9-0F49-4CD1-A94C-ADD5368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2DA-A7E4-460D-A5CA-D8F77CD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1028-26CE-4743-8DEB-0EF8265F3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3" descr=""/>
          <p:cNvPicPr/>
          <p:nvPr/>
        </p:nvPicPr>
        <p:blipFill>
          <a:blip r:embed="rId1"/>
          <a:stretch/>
        </p:blipFill>
        <p:spPr>
          <a:xfrm>
            <a:off x="0" y="1473120"/>
            <a:ext cx="868680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315200" y="54100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2388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14600" y="1981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72000" y="47242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24"/>
          <p:cNvCxnSpPr/>
          <p:nvPr/>
        </p:nvCxnSpPr>
        <p:spPr>
          <a:xfrm flipH="1" flipV="1">
            <a:off x="4272840" y="4571280"/>
            <a:ext cx="299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 Box 10"/>
          <p:cNvSpPr/>
          <p:nvPr/>
        </p:nvSpPr>
        <p:spPr>
          <a:xfrm>
            <a:off x="4572000" y="4267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26"/>
          <p:cNvCxnSpPr/>
          <p:nvPr/>
        </p:nvCxnSpPr>
        <p:spPr>
          <a:xfrm flipH="1">
            <a:off x="4304880" y="4343400"/>
            <a:ext cx="267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 Box 10"/>
          <p:cNvSpPr/>
          <p:nvPr/>
        </p:nvSpPr>
        <p:spPr>
          <a:xfrm>
            <a:off x="45720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4864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533520" y="1523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health spending as a percent of gross state product, 2004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228600" y="274680"/>
            <a:ext cx="86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a | Differences in per capita income alone account for more than one third of differences in health spending burdens across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33920" y="518148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37"/>
          <p:cNvCxnSpPr/>
          <p:nvPr/>
        </p:nvCxnSpPr>
        <p:spPr>
          <a:xfrm flipV="1">
            <a:off x="3961440" y="4952160"/>
            <a:ext cx="6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 Box 10"/>
          <p:cNvSpPr/>
          <p:nvPr/>
        </p:nvSpPr>
        <p:spPr>
          <a:xfrm>
            <a:off x="2286000" y="2362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09880" y="2819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/>
  <dc:language>en-US</dc:language>
  <cp:lastModifiedBy>Jia Yao</cp:lastModifiedBy>
  <dcterms:modified xsi:type="dcterms:W3CDTF">2013-09-06T15:13:2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