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02C1-BDE3-453B-A2D5-2E042A39C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b | Trends in Per Capita Income by Geographic Region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0AA1-9E39-4F64-A239-817ADCFBF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E99-8B95-4BC5-98BB-112F76F2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984-995E-4546-9E18-9001557A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D00-B0CB-4E01-87D9-6393F8E6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634-81D5-4D13-AA0D-69FB90CF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CE5-119D-41AA-8B9C-DD64D108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1FC-BB0D-49F7-92D4-09491B38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0D3-3B76-4119-A38A-F6E21F0B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9F7-0E27-4470-A842-52926C4B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A7E-A469-4942-B5C4-017E7991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35B-FEC5-48BD-8F16-2CB67EC0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452-9BC0-40FA-AF3E-A8340102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278C-B338-4136-8D3B-A9B9AD29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4905-8B9C-4141-B1DD-CD42E22FA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b | Regional income disparities have narrowed considerably over the past 8 decades, but have widened somewhat since 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31840" y="1146240"/>
            <a:ext cx="8680320" cy="5479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143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Incom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b | Regional income disparities have narrowed considerably over the past 8 decades, but have widened somewhat since 1979</dc:description>
  <dc:language>en-US</dc:language>
  <cp:lastModifiedBy>Jia Yao</cp:lastModifiedBy>
  <dcterms:modified xsi:type="dcterms:W3CDTF">2013-09-06T15:13:21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b | Regional income disparities have narrowed considerably over the past 8 decades, but have widened somewhat since 1979</vt:lpwstr>
  </property>
</Properties>
</file>